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7888-1F8F-4149-A50A-6550D1D5616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ost existing definitions can only deal with this kind of timing anom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evel: Observations. No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nzel: schließt spekulations-anomalien aus, sonst weglassen. Vorbereitu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ihenfolge, erst Hardware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B47-4D84-4101-B962-432A4AD5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A78-FD7F-45C4-B2FD-5DFB56F6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459-3323-441B-882C-D4669515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D61-BDA1-4FE4-B72E-958A98C0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D09A-D259-4E74-87CC-66951E23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6241-2516-47EE-937C-3B637211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A178-6050-4E78-840B-7970E0ED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8A4A-619E-49E1-B23E-18BAC489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DAA8-7116-4597-83CE-79BA5FD2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A403-61D0-476E-9127-77344D2C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40A7-6DAF-4E02-8C20-D5D17356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AD9-891B-465A-BAA9-1502C39E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A48A-0E22-44EA-8351-63132381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58B1-72A2-4244-BC21-422369AB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29C2-9CEB-47E6-BB68-E8839B9C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CD38-59F0-4F34-885C-0F8A6427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423A-1A21-4A14-A868-62FD64B4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21C-AD59-4558-819C-61B31787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749-DD55-4BD5-AD0F-139879F0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441-EB76-4F2E-9410-76C32B26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C90-4B9D-4EB1-8796-03600911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7F6-9024-429D-9E81-26B0FA98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929-0E6B-4C1E-8121-A5412294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4B2-A97C-4FFF-8CA7-1D5435D8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1000" y="6286680"/>
            <a:ext cx="532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3F25-50E2-47C7-9E81-A3221EA08FB6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1654-21CB-457E-96D9-EB610639F632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140480"/>
            <a:ext cx="8077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A Definition and Classification of Timing Anomali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0" y="31240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Sylfaen"/>
              </a:rPr>
              <a:t>Jan Reineke, Björn Wachter, Stephan Thesing, Reinhard Wilhe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Sylfaen"/>
              </a:rPr>
              <a:t>Saarland Univers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Sylfaen"/>
              </a:rPr>
              <a:t>Ilia Polian, Jochen Eisinger, Bernd Beck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Sylfaen"/>
              </a:rPr>
              <a:t>University of Freibur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Sylfaen"/>
              </a:rPr>
              <a:t>6</a:t>
            </a:r>
            <a:r>
              <a:rPr b="1" lang="de-DE" sz="2200" spc="-1" strike="noStrike" baseline="30000">
                <a:solidFill>
                  <a:srgbClr val="000000"/>
                </a:solidFill>
                <a:latin typeface="Sylfaen"/>
              </a:rPr>
              <a:t>th</a:t>
            </a:r>
            <a:r>
              <a:rPr b="1" lang="de-DE" sz="2200" spc="-1" strike="noStrike">
                <a:solidFill>
                  <a:srgbClr val="000000"/>
                </a:solidFill>
                <a:latin typeface="Sylfaen"/>
              </a:rPr>
              <a:t> Intl WORKSHOP ON WCET ANALY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Sylfaen"/>
              </a:rPr>
              <a:t>Dresden, Germany, July 4, 2006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Correspondence of Pat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Compare „related“ paths only: use Locality Constra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rogramsPaths2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876920" cy="381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Definition: Timing Anomali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0" name="anomalyIllustration2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848720" cy="2205000"/>
          </a:xfrm>
          <a:prstGeom prst="rect">
            <a:avLst/>
          </a:prstGeom>
          <a:ln w="0">
            <a:noFill/>
          </a:ln>
        </p:spPr>
      </p:pic>
      <p:pic>
        <p:nvPicPr>
          <p:cNvPr id="251" name="txp_fig" descr=""/>
          <p:cNvPicPr/>
          <p:nvPr/>
        </p:nvPicPr>
        <p:blipFill>
          <a:blip r:embed="rId2"/>
          <a:stretch/>
        </p:blipFill>
        <p:spPr>
          <a:xfrm>
            <a:off x="1444680" y="1898640"/>
            <a:ext cx="5811840" cy="119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Future Wor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Investigate applicability of defin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Automatically identify Timing Anoma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Prove absence under certain conditions (maybe restricted set of locality constrain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Abstract VHDL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Equivalent problem formulation for model check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Classific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Scheduling Anomal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Speculation Anomal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Cache Anomal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schedulingAnomaly2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5257800" cy="290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Structur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What are Timing Anomali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What is the proble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-1458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Timing Anomalies – Example 1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Counterintuitive timing behaviou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Local worst-case does not entail global worst-c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schedulingAnomaly2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5715000" cy="31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-1458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Timing Anomalies – Example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Counterintuitive timing behaviou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Local worst-case does not entail global worst-c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speculationAnomaly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5867280" cy="221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What is the problem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651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It makes timing analysis more difficul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The analysis has to follow all possi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-&gt; exponential blow-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Prove the absence of timing anomal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Identify conditions for safe local dec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Need a sound &amp; general defini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exponentialBlowup" descr=""/>
          <p:cNvPicPr/>
          <p:nvPr/>
        </p:nvPicPr>
        <p:blipFill>
          <a:blip r:embed="rId1"/>
          <a:stretch/>
        </p:blipFill>
        <p:spPr>
          <a:xfrm>
            <a:off x="6858000" y="762120"/>
            <a:ext cx="1989000" cy="1855800"/>
          </a:xfrm>
          <a:prstGeom prst="rect">
            <a:avLst/>
          </a:prstGeom>
          <a:ln w="0">
            <a:noFill/>
          </a:ln>
        </p:spPr>
      </p:pic>
      <p:pic>
        <p:nvPicPr>
          <p:cNvPr id="230" name="exponentialBlowupCondition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1989000" cy="1855800"/>
          </a:xfrm>
          <a:prstGeom prst="rect">
            <a:avLst/>
          </a:prstGeom>
          <a:ln w="0">
            <a:noFill/>
          </a:ln>
        </p:spPr>
      </p:pic>
      <p:pic>
        <p:nvPicPr>
          <p:cNvPr id="231" name="exponentialBlowupNoAnomalies" descr=""/>
          <p:cNvPicPr/>
          <p:nvPr/>
        </p:nvPicPr>
        <p:blipFill>
          <a:blip r:embed="rId3"/>
          <a:stretch/>
        </p:blipFill>
        <p:spPr>
          <a:xfrm>
            <a:off x="6781680" y="2743200"/>
            <a:ext cx="1989360" cy="18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Related Wor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Giving examples, informal de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Lundqvist &amp; Stenström, `99, `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Engblom &amp; Jonsson, `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Schneider, `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Thesing, `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Scheduling Anoma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Graham, `6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Necessary cond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Wenzel, Kirner, Puschner, &amp; Riedel, `03,  `0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Limited scope due to underlying as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Aspects for Defini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71720" y="1904760"/>
            <a:ext cx="7713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Hardware Mod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cycle-level behaviour of machine running a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Abstrac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introduces non-determin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Localit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what is a local worst-cas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previously ad hoc: cache hit vs. cache mi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-1458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Hardware Model + Abstrac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Do not model abstraction explicitl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Hardware Model = Maps program to transition system + set of locality constra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Remark: possible to define correctness condition for abstract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53100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Localit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Locality Constrain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Local worst-case path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Locality Constraints for Micro Operations (IF, M, EX, WB, etc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localityConstraint" descr=""/>
          <p:cNvPicPr/>
          <p:nvPr/>
        </p:nvPicPr>
        <p:blipFill>
          <a:blip r:embed="rId1"/>
          <a:stretch/>
        </p:blipFill>
        <p:spPr>
          <a:xfrm>
            <a:off x="2898720" y="2438280"/>
            <a:ext cx="3649680" cy="1870200"/>
          </a:xfrm>
          <a:prstGeom prst="rect">
            <a:avLst/>
          </a:prstGeom>
          <a:ln w="0">
            <a:noFill/>
          </a:ln>
        </p:spPr>
      </p:pic>
      <p:pic>
        <p:nvPicPr>
          <p:cNvPr id="241" name="localityConstraint2" descr=""/>
          <p:cNvPicPr/>
          <p:nvPr/>
        </p:nvPicPr>
        <p:blipFill>
          <a:blip r:embed="rId2"/>
          <a:stretch/>
        </p:blipFill>
        <p:spPr>
          <a:xfrm>
            <a:off x="2898720" y="2433600"/>
            <a:ext cx="3651480" cy="1881360"/>
          </a:xfrm>
          <a:prstGeom prst="rect">
            <a:avLst/>
          </a:prstGeom>
          <a:ln w="0">
            <a:noFill/>
          </a:ln>
        </p:spPr>
      </p:pic>
      <p:pic>
        <p:nvPicPr>
          <p:cNvPr id="242" name="localityConstraint2-2" descr=""/>
          <p:cNvPicPr/>
          <p:nvPr/>
        </p:nvPicPr>
        <p:blipFill>
          <a:blip r:embed="rId3"/>
          <a:stretch/>
        </p:blipFill>
        <p:spPr>
          <a:xfrm>
            <a:off x="2898720" y="2433600"/>
            <a:ext cx="3651480" cy="1881360"/>
          </a:xfrm>
          <a:prstGeom prst="rect">
            <a:avLst/>
          </a:prstGeom>
          <a:ln w="0">
            <a:noFill/>
          </a:ln>
        </p:spPr>
      </p:pic>
      <p:pic>
        <p:nvPicPr>
          <p:cNvPr id="243" name="localityConstraint3" descr=""/>
          <p:cNvPicPr/>
          <p:nvPr/>
        </p:nvPicPr>
        <p:blipFill>
          <a:blip r:embed="rId4"/>
          <a:stretch/>
        </p:blipFill>
        <p:spPr>
          <a:xfrm>
            <a:off x="2898720" y="2438280"/>
            <a:ext cx="3649680" cy="1870200"/>
          </a:xfrm>
          <a:prstGeom prst="rect">
            <a:avLst/>
          </a:prstGeom>
          <a:ln w="0">
            <a:noFill/>
          </a:ln>
        </p:spPr>
      </p:pic>
      <p:pic>
        <p:nvPicPr>
          <p:cNvPr id="244" name="localityConstraint3-1" descr=""/>
          <p:cNvPicPr/>
          <p:nvPr/>
        </p:nvPicPr>
        <p:blipFill>
          <a:blip r:embed="rId5"/>
          <a:stretch/>
        </p:blipFill>
        <p:spPr>
          <a:xfrm>
            <a:off x="2898720" y="2438280"/>
            <a:ext cx="3649680" cy="1870200"/>
          </a:xfrm>
          <a:prstGeom prst="rect">
            <a:avLst/>
          </a:prstGeom>
          <a:ln w="0">
            <a:noFill/>
          </a:ln>
        </p:spPr>
      </p:pic>
      <p:pic>
        <p:nvPicPr>
          <p:cNvPr id="245" name="localityConstraint5" descr=""/>
          <p:cNvPicPr/>
          <p:nvPr/>
        </p:nvPicPr>
        <p:blipFill>
          <a:blip r:embed="rId6"/>
          <a:stretch/>
        </p:blipFill>
        <p:spPr>
          <a:xfrm>
            <a:off x="2895480" y="2438280"/>
            <a:ext cx="3657600" cy="18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11:51:16Z</dcterms:created>
  <dc:creator>Donald Duck</dc:creator>
  <dc:description/>
  <dc:language>en-US</dc:language>
  <cp:lastModifiedBy>Donald Duck</cp:lastModifiedBy>
  <dcterms:modified xsi:type="dcterms:W3CDTF">2006-06-29T13:40:24Z</dcterms:modified>
  <cp:revision>91</cp:revision>
  <dc:subject/>
  <dc:title>A Definition and Classification of Timing Anomalies</dc:title>
</cp:coreProperties>
</file>