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7D5C-4743-46FF-AC9F-D2478700F0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st existing definitions can only deal with this kind of timing anom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evel: Observations. No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nzel: schließt spekulations-anomalien aus, sonst weglassen. Vorbereit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ihenfolge, erst Hardwar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B80-335A-48CA-827D-B48A7238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F45-083E-4301-8465-9174A80F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01D-CF7A-4ACA-99BF-0F68A430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7F4-953F-4DBB-A6C7-4E66833E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2EA8-7503-4167-8044-BD62477D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FA54-CA11-4451-BCBB-C4462B81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20AD-611E-4925-8BA7-83EDF9EC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533A-BFAB-4735-99AB-5CD9DA9A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CAD9-F587-4537-9BFF-293E19A7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3D52-C12F-4FE6-A13A-8F36B911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B731-A5A9-4977-B78E-F30405D4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153-C6C2-4F53-A560-83575F47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894C-7CA5-4D59-AA0F-8DBCEA87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B448-2C71-43AD-BB19-B95B9D5C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46F4-B851-42C3-B1BE-8BB65DC1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1046-0E00-4E18-BD63-5A2CD6C3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E086-C8E3-4BAA-A62A-B3C21524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4E5-DF91-4336-8EAF-E85C38BB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BA9-AA48-47FA-99D2-A8583BF3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E2B-EEFF-483C-B9DB-E1D16749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84D-D6B8-430A-8BEB-CB155AAE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887-0BD4-4CC9-8A30-03B09138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9A5-51F2-46E0-9F0A-EACC613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AFE-32D2-4CA2-8A8F-E638A26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1000" y="62866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0026-2B0B-4FEE-A33F-1BD4D4E2CAEF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6197-A0D5-479B-9503-D5F0470620C1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140480"/>
            <a:ext cx="8077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A Definition and Classification of Timing Anomal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Sylfaen"/>
              </a:rPr>
              <a:t>Jan Reineke, Björn Wachter, Stephan Thesing, Reinhard Wilhe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ylfaen"/>
              </a:rPr>
              <a:t>Saarland Univers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Sylfaen"/>
              </a:rPr>
              <a:t>Ilia Polian, Jochen Eisinger, Bernd Beck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ylfaen"/>
              </a:rPr>
              <a:t>University of Freibur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Sylfaen"/>
              </a:rPr>
              <a:t>6</a:t>
            </a:r>
            <a:r>
              <a:rPr b="1" lang="de-DE" sz="2200" spc="-1" strike="noStrike" baseline="30000">
                <a:solidFill>
                  <a:srgbClr val="000000"/>
                </a:solidFill>
                <a:latin typeface="Sylfaen"/>
              </a:rPr>
              <a:t>th</a:t>
            </a:r>
            <a:r>
              <a:rPr b="1" lang="de-DE" sz="2200" spc="-1" strike="noStrike">
                <a:solidFill>
                  <a:srgbClr val="000000"/>
                </a:solidFill>
                <a:latin typeface="Sylfaen"/>
              </a:rPr>
              <a:t> Intl WORKSHOP ON WCET ANALY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ylfaen"/>
              </a:rPr>
              <a:t>Dresden, Germany, July 4, 2006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Correspondence of Pat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ompare „related“ paths only: use Locality Constra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rogramsPaths2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876920" cy="381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Definition: Timing Anomal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0" name="anomalyIllustration2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848720" cy="2205000"/>
          </a:xfrm>
          <a:prstGeom prst="rect">
            <a:avLst/>
          </a:prstGeom>
          <a:ln w="0">
            <a:noFill/>
          </a:ln>
        </p:spPr>
      </p:pic>
      <p:pic>
        <p:nvPicPr>
          <p:cNvPr id="251" name="txp_fig" descr=""/>
          <p:cNvPicPr/>
          <p:nvPr/>
        </p:nvPicPr>
        <p:blipFill>
          <a:blip r:embed="rId2"/>
          <a:stretch/>
        </p:blipFill>
        <p:spPr>
          <a:xfrm>
            <a:off x="1444680" y="1898640"/>
            <a:ext cx="5811840" cy="11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Investigate applicability of defin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Automatically identify Timing Anoma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Prove absence under certain conditions (maybe restricted set of locality constrain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Abstract VHDL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Equivalent problem formulation for model chec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Classific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Scheduling Anoma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Speculation Anoma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ache Anoma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schedulingAnomaly2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5257800" cy="290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Structu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What are Timing Anomali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What is the proble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-1458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Timing Anomalies – Example 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ounterintuitive timing behaviou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Local worst-case does not entail global worst-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schedulingAnomaly2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71500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-1458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Timing Anomalies – Example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ounterintuitive timing behaviou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Local worst-case does not entail global worst-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speculationAnomaly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867280" cy="221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What is the problem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651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It makes timing analysis more difficul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The analysis has to follow all poss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-&gt; exponential blow-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Prove the absence of timing anomal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Identify conditions for safe local dec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Need a sound &amp; general defini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exponentialBlowup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989000" cy="1855800"/>
          </a:xfrm>
          <a:prstGeom prst="rect">
            <a:avLst/>
          </a:prstGeom>
          <a:ln w="0">
            <a:noFill/>
          </a:ln>
        </p:spPr>
      </p:pic>
      <p:pic>
        <p:nvPicPr>
          <p:cNvPr id="230" name="exponentialBlowupCondition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1989000" cy="1855800"/>
          </a:xfrm>
          <a:prstGeom prst="rect">
            <a:avLst/>
          </a:prstGeom>
          <a:ln w="0">
            <a:noFill/>
          </a:ln>
        </p:spPr>
      </p:pic>
      <p:pic>
        <p:nvPicPr>
          <p:cNvPr id="231" name="exponentialBlowupNoAnomalies" descr=""/>
          <p:cNvPicPr/>
          <p:nvPr/>
        </p:nvPicPr>
        <p:blipFill>
          <a:blip r:embed="rId3"/>
          <a:stretch/>
        </p:blipFill>
        <p:spPr>
          <a:xfrm>
            <a:off x="6781680" y="2743200"/>
            <a:ext cx="1989360" cy="18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Related Wor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Giving examples, informal de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Lundqvist &amp; Stenström, `99, `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Engblom &amp; Jonsson, `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Schneider, `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Thesing, `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Scheduling Anoma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Graham, `6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Necessary con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Wenzel, Kirner, Puschner, &amp; Riedel, `03,  `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Limited scope due to underlying as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Aspects for Defini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1720" y="1904760"/>
            <a:ext cx="7713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Hardware Mod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cycle-level behaviour of machine running a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Abstrac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introduces non-determin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it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what is a local worst-ca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previously ad hoc: cache hit vs. cache mi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-1458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Hardware Model + Abstrac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Do not model abstraction explicit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Hardware Model = Maps program to transition system + set of locality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Remark: possible to define correctness condition for abstract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53100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Loca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ity Constrai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 worst-case path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ity Constraints for Micro Operations (IF, M, EX, WB, etc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localityConstraint" descr=""/>
          <p:cNvPicPr/>
          <p:nvPr/>
        </p:nvPicPr>
        <p:blipFill>
          <a:blip r:embed="rId1"/>
          <a:stretch/>
        </p:blipFill>
        <p:spPr>
          <a:xfrm>
            <a:off x="2898720" y="2438280"/>
            <a:ext cx="3649680" cy="1870200"/>
          </a:xfrm>
          <a:prstGeom prst="rect">
            <a:avLst/>
          </a:prstGeom>
          <a:ln w="0">
            <a:noFill/>
          </a:ln>
        </p:spPr>
      </p:pic>
      <p:pic>
        <p:nvPicPr>
          <p:cNvPr id="241" name="localityConstraint2" descr=""/>
          <p:cNvPicPr/>
          <p:nvPr/>
        </p:nvPicPr>
        <p:blipFill>
          <a:blip r:embed="rId2"/>
          <a:stretch/>
        </p:blipFill>
        <p:spPr>
          <a:xfrm>
            <a:off x="2898720" y="2433600"/>
            <a:ext cx="3651480" cy="1881360"/>
          </a:xfrm>
          <a:prstGeom prst="rect">
            <a:avLst/>
          </a:prstGeom>
          <a:ln w="0">
            <a:noFill/>
          </a:ln>
        </p:spPr>
      </p:pic>
      <p:pic>
        <p:nvPicPr>
          <p:cNvPr id="242" name="localityConstraint2-2" descr=""/>
          <p:cNvPicPr/>
          <p:nvPr/>
        </p:nvPicPr>
        <p:blipFill>
          <a:blip r:embed="rId3"/>
          <a:stretch/>
        </p:blipFill>
        <p:spPr>
          <a:xfrm>
            <a:off x="2898720" y="2433600"/>
            <a:ext cx="3651480" cy="1881360"/>
          </a:xfrm>
          <a:prstGeom prst="rect">
            <a:avLst/>
          </a:prstGeom>
          <a:ln w="0">
            <a:noFill/>
          </a:ln>
        </p:spPr>
      </p:pic>
      <p:pic>
        <p:nvPicPr>
          <p:cNvPr id="243" name="localityConstraint3" descr=""/>
          <p:cNvPicPr/>
          <p:nvPr/>
        </p:nvPicPr>
        <p:blipFill>
          <a:blip r:embed="rId4"/>
          <a:stretch/>
        </p:blipFill>
        <p:spPr>
          <a:xfrm>
            <a:off x="2898720" y="2438280"/>
            <a:ext cx="3649680" cy="1870200"/>
          </a:xfrm>
          <a:prstGeom prst="rect">
            <a:avLst/>
          </a:prstGeom>
          <a:ln w="0">
            <a:noFill/>
          </a:ln>
        </p:spPr>
      </p:pic>
      <p:pic>
        <p:nvPicPr>
          <p:cNvPr id="244" name="localityConstraint3-1" descr=""/>
          <p:cNvPicPr/>
          <p:nvPr/>
        </p:nvPicPr>
        <p:blipFill>
          <a:blip r:embed="rId5"/>
          <a:stretch/>
        </p:blipFill>
        <p:spPr>
          <a:xfrm>
            <a:off x="2898720" y="2438280"/>
            <a:ext cx="3649680" cy="1870200"/>
          </a:xfrm>
          <a:prstGeom prst="rect">
            <a:avLst/>
          </a:prstGeom>
          <a:ln w="0">
            <a:noFill/>
          </a:ln>
        </p:spPr>
      </p:pic>
      <p:pic>
        <p:nvPicPr>
          <p:cNvPr id="245" name="localityConstraint5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3657600" cy="18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1:51:16Z</dcterms:created>
  <dc:creator>Donald Duck</dc:creator>
  <dc:description/>
  <dc:language>en-US</dc:language>
  <cp:lastModifiedBy>Donald Duck</cp:lastModifiedBy>
  <dcterms:modified xsi:type="dcterms:W3CDTF">2006-06-29T13:40:24Z</dcterms:modified>
  <cp:revision>91</cp:revision>
  <dc:subject/>
  <dc:title>A Definition and Classification of Timing Anomalies</dc:title>
</cp:coreProperties>
</file>