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4C0C-288C-464E-9F2A-0D4776DDD7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st existing definitions can only deal with this kind of timing anom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evel: Observations. No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nzel: schließt spekulations-anomalien aus, sonst weglassen. Vorbereit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ihenfolge, erst Hardwar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A7E-F79B-4831-8463-C1B97124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EAA-6D2A-4298-A9C8-025CA873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A4C-9A7D-4590-BE2F-6813803A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76E-6AE0-4804-9853-61CDBBEF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EC70-EBB8-4D4A-A91A-ECF0367F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DDFD-3E71-478D-BB54-DF98EB22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FABE-A88A-436C-9E47-D682506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14D1-5334-4FD6-B8A0-ED2E167F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1AC3-A4AF-4639-B463-A0090F71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75C3-54FC-4D00-81DF-33805C99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A4DF-874A-460E-AE10-F955913B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C31-504D-4797-B07C-928FCC4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BAA8-3FC9-40A8-BDF2-05434A59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50E7-DAF5-4349-B765-34451C92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2F25-AADB-4116-A1C9-EE086A8C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9D1B-95BD-45D9-8306-F366B0BA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9993-7023-4099-88AC-1F9CEE0B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837-95F0-4668-BBC8-4A6B51C1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80E-BE8C-4459-8753-A467DD44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45C-CE55-4E18-B8AB-F84B8405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6A7-FE12-4C9F-AED0-16C58CD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AC7-F992-48F3-8C5D-7FC5096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352-3CDE-4AF0-B132-73D24A17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6FF-FEFE-4FAF-821F-E9C6FF2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1000" y="6286680"/>
            <a:ext cx="532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4FE-ED5A-4F3A-8154-622FEC3404EC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8635-22A2-4710-9CF0-3653A726E09E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14048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A Definition and Classification of Timing Anomal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Sylfaen"/>
              </a:rPr>
              <a:t>Jan Reineke, Björn Wachter, Stephan Thesing, Reinhard Wilhe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Saarland Univers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Sylfaen"/>
              </a:rPr>
              <a:t>Ilia Polian, Jochen Eisinger, Bernd Beck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University of Freibur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Sylfaen"/>
              </a:rPr>
              <a:t>6</a:t>
            </a:r>
            <a:r>
              <a:rPr b="1" lang="de-DE" sz="2200" spc="-1" strike="noStrike" baseline="30000">
                <a:solidFill>
                  <a:srgbClr val="000000"/>
                </a:solidFill>
                <a:latin typeface="Sylfaen"/>
              </a:rPr>
              <a:t>th</a:t>
            </a:r>
            <a:r>
              <a:rPr b="1" lang="de-DE" sz="2200" spc="-1" strike="noStrike">
                <a:solidFill>
                  <a:srgbClr val="000000"/>
                </a:solidFill>
                <a:latin typeface="Sylfaen"/>
              </a:rPr>
              <a:t> Intl WORKSHOP ON WCET ANALY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Sylfaen"/>
              </a:rPr>
              <a:t>Dresden, Germany, July 4, 2006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Correspondence of Pat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mpare „related“ paths only: use Locality Constra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rogramsPaths2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76920" cy="381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Definition: Timing Anomal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0" name="anomalyIllustration2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848720" cy="2205000"/>
          </a:xfrm>
          <a:prstGeom prst="rect">
            <a:avLst/>
          </a:prstGeom>
          <a:ln w="0">
            <a:noFill/>
          </a:ln>
        </p:spPr>
      </p:pic>
      <p:pic>
        <p:nvPicPr>
          <p:cNvPr id="251" name="txp_fig" descr=""/>
          <p:cNvPicPr/>
          <p:nvPr/>
        </p:nvPicPr>
        <p:blipFill>
          <a:blip r:embed="rId2"/>
          <a:stretch/>
        </p:blipFill>
        <p:spPr>
          <a:xfrm>
            <a:off x="1444680" y="1898640"/>
            <a:ext cx="5811840" cy="11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Investigate applicability of 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Automatically identify Timing Anoma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Prove absence under certain conditions (maybe restricted set of locality constrain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Abstract VHDL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Equivalent problem formulation for model chec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Classific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Scheduling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Speculation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ache Anoma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schedulingAnomaly2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257800" cy="29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Struct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What are Timing Anomali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What is the proble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Timing Anomalies – Example 1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unterintuitive timing behaviou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Local worst-case does not entail global worst-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schedulingAnomaly2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71500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Timing Anomalies – Example 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Counterintuitive timing behaviou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Local worst-case does not entail global worst-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speculationAnomaly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867280" cy="221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What is the problem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51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It makes timing analysis more difficul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The analysis has to follow all pos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-&gt; exponential blow-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Prove the absence of timing anomal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Identify conditions for safe local dec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Need a sound &amp; general defini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exponentialBlowup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989000" cy="1855800"/>
          </a:xfrm>
          <a:prstGeom prst="rect">
            <a:avLst/>
          </a:prstGeom>
          <a:ln w="0">
            <a:noFill/>
          </a:ln>
        </p:spPr>
      </p:pic>
      <p:pic>
        <p:nvPicPr>
          <p:cNvPr id="230" name="exponentialBlowupCondition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1989000" cy="1855800"/>
          </a:xfrm>
          <a:prstGeom prst="rect">
            <a:avLst/>
          </a:prstGeom>
          <a:ln w="0">
            <a:noFill/>
          </a:ln>
        </p:spPr>
      </p:pic>
      <p:pic>
        <p:nvPicPr>
          <p:cNvPr id="231" name="exponentialBlowupNoAnomalies" descr=""/>
          <p:cNvPicPr/>
          <p:nvPr/>
        </p:nvPicPr>
        <p:blipFill>
          <a:blip r:embed="rId3"/>
          <a:stretch/>
        </p:blipFill>
        <p:spPr>
          <a:xfrm>
            <a:off x="6781680" y="2743200"/>
            <a:ext cx="1989360" cy="18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Related Wor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Giving examples, informal de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Lundqvist &amp; Stenström, `99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Engblom &amp; Jonsson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Schneider, `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Thesing, `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Scheduling Anoma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Graham, `6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Necessary con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Wenzel, Kirner, Puschner, &amp; Riedel, `03,  `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lfaen"/>
              </a:rPr>
              <a:t>Limited scope due to underlying as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Aspects for Defini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71720" y="1904760"/>
            <a:ext cx="7713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Hardware Mod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cycle-level behaviour of machine running a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Abstrac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introduces non-determin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what is a local worst-ca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previously ad hoc: cache hit vs. cache mi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-1458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Hardware Model + Abstrac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Do not model abstraction explicit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lfaen"/>
              </a:rPr>
              <a:t>Hardware Model = Maps program to transition system + set of locality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Remark: possible to define correctness condition for abstract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53100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Sylfaen"/>
              </a:rPr>
              <a:t>Loca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Constrai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 worst-case path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lfaen"/>
              </a:rPr>
              <a:t>Locality Constraints for Micro Operations (IF, M, EX, WB, etc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localityConstraint" descr=""/>
          <p:cNvPicPr/>
          <p:nvPr/>
        </p:nvPicPr>
        <p:blipFill>
          <a:blip r:embed="rId1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1" name="localityConstraint2" descr=""/>
          <p:cNvPicPr/>
          <p:nvPr/>
        </p:nvPicPr>
        <p:blipFill>
          <a:blip r:embed="rId2"/>
          <a:stretch/>
        </p:blipFill>
        <p:spPr>
          <a:xfrm>
            <a:off x="2898720" y="2433600"/>
            <a:ext cx="3651480" cy="1881360"/>
          </a:xfrm>
          <a:prstGeom prst="rect">
            <a:avLst/>
          </a:prstGeom>
          <a:ln w="0">
            <a:noFill/>
          </a:ln>
        </p:spPr>
      </p:pic>
      <p:pic>
        <p:nvPicPr>
          <p:cNvPr id="242" name="localityConstraint2-2" descr=""/>
          <p:cNvPicPr/>
          <p:nvPr/>
        </p:nvPicPr>
        <p:blipFill>
          <a:blip r:embed="rId3"/>
          <a:stretch/>
        </p:blipFill>
        <p:spPr>
          <a:xfrm>
            <a:off x="2898720" y="2433600"/>
            <a:ext cx="3651480" cy="1881360"/>
          </a:xfrm>
          <a:prstGeom prst="rect">
            <a:avLst/>
          </a:prstGeom>
          <a:ln w="0">
            <a:noFill/>
          </a:ln>
        </p:spPr>
      </p:pic>
      <p:pic>
        <p:nvPicPr>
          <p:cNvPr id="243" name="localityConstraint3" descr=""/>
          <p:cNvPicPr/>
          <p:nvPr/>
        </p:nvPicPr>
        <p:blipFill>
          <a:blip r:embed="rId4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4" name="localityConstraint3-1" descr=""/>
          <p:cNvPicPr/>
          <p:nvPr/>
        </p:nvPicPr>
        <p:blipFill>
          <a:blip r:embed="rId5"/>
          <a:stretch/>
        </p:blipFill>
        <p:spPr>
          <a:xfrm>
            <a:off x="2898720" y="2438280"/>
            <a:ext cx="3649680" cy="1870200"/>
          </a:xfrm>
          <a:prstGeom prst="rect">
            <a:avLst/>
          </a:prstGeom>
          <a:ln w="0">
            <a:noFill/>
          </a:ln>
        </p:spPr>
      </p:pic>
      <p:pic>
        <p:nvPicPr>
          <p:cNvPr id="245" name="localityConstraint5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3657600" cy="18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CET' 06, Timing Anomalies, Jan Reine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4th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1:51:16Z</dcterms:created>
  <dc:creator>Donald Duck</dc:creator>
  <dc:description/>
  <dc:language>en-US</dc:language>
  <cp:lastModifiedBy>Donald Duck</cp:lastModifiedBy>
  <dcterms:modified xsi:type="dcterms:W3CDTF">2006-06-29T13:40:24Z</dcterms:modified>
  <cp:revision>91</cp:revision>
  <dc:subject/>
  <dc:title>A Definition and Classification of Timing Anomalies</dc:title>
</cp:coreProperties>
</file>