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23.gif" ContentType="image/gif"/>
  <Override PartName="/ppt/media/image7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33EF-14B4-44D2-A43B-13B026EE9CF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hat are uncertainty and penalty in the context of caches? Cannot classify something as a hit or a miss -&gt; need to assume miss and pay with cache miss penal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enalty is (more or less) independent of replacement policy -&gt; Focus on Uncertain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pper bounds on WCET -&gt; for scheduling analysis -&gt; can all critical tasks be execu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ere are several reasons for uncertainty: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oss of information, introduction of uncertainty, independent of replacement policy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o capture the speed of recovery we have defined two metrics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this is were the cache replacement policy comes into pl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f we start out from complete uncertainty: how a long a sequence of accesses do we need to observer until we reach a state that is completely know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ow long does it take until the cache set may only contain elements from the sequence, that is all unknown contents have been elimin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ame is misleading: It does not replace the most-recently-used element as you might exp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pper bounds on WCET -&gt; for scheduling analysis -&gt; can all critical tasks be execu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py this slide to position 2? To get the whole talk goin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lche Reihenfolge? Konsequenzen der Zahlen wiederholen, z.B. instruction cache, straight-line code, wieviele zeilen um gesicherte may-information zu hab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plain values for LRU, FIFO, MRU and PL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IFO: Hit to „oldest“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RU: Access of left-most element just before „big bang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LRU: Access Path after access 0…0 needs to be turned to 1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RU is expen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road audience -&gt; what are cach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ow to derive safe upper bounds -&gt; static cache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re of the talk -&gt; predictability metrics (how suitable is a cache replacement policy for proving tight upper bou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ome more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uture Work based on the results and on the shortco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ODO: possibly not assuming pairwise different ac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ches have a huge impact on the timing behaviour of a task -&gt; very important for timing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hat happens on a memory acce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ind out whether element is contained in the 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f so, retriev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f not, fetch it from main mem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. Why not fully-associative? -&gt; too expensive, too many comparisons, determination of cache hit would take too long + update logic more expensive as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. Usually, cache sets are independent of each other -&gt; can analyze cache sets independ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. Spatial locality (load lines not single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4. Temporal locality (-&gt; replacement policy on hits and mis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hy is this a good idea? Rationale of LRU replacement: An element that has recently been accessed is more likely to be accessed in the future -&gt; we want to keep 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losing: this should give you an idea of how caches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ta-Flow Analysis over Control-Flow Graph: Transfer functions + Join 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o how does an analysis for LRU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ncrete cache states represented by the two abstract sta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ow that you have a rough idea of cache analysis we can come back to the real topic of the talk: predictability of cache replacement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1C9A-D068-4D87-B1CD-DF72E607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FDD-FAB9-4F2C-B4B2-5148D70A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C69E-33F4-4948-AB1A-8D936791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C433-7454-4223-9674-4C1FBE79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DB81-D1A9-48B5-B422-66BA372B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C647-6C75-4125-BA60-81B01914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3154-0EF4-489B-A5C3-8BE2BA89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A74D-BDBB-452B-8D69-E0383008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D71B-413C-42A6-AC90-7A10EC5B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176A-A0FE-4925-9C74-D2C6EA40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50F4-7AD7-4E6E-961A-F82DFF49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B57F-8C54-4A19-AAF3-58ACBB00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E16F-28CB-49A7-A400-814AC552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4FEF-6C93-4267-A555-7A767982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95C9-AB8C-4167-A51F-D5FC14C6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AAD7-A1D3-4784-A81C-3A873395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33C9-EBED-41E5-9061-D46079B9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35E6-9355-4C59-85A7-FCB82EFC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269-4FDE-4FD4-BC4F-C83680B8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088E-3690-4830-AF82-8EF13111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9F18-BF58-4119-9E62-41D23778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42D4-6ED1-4CC4-AEC2-11261E29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703E-D5C0-4140-BF89-75DFF01C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7D5A-7E67-48A8-8079-98D12C81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587664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8B68-012D-4B00-AE03-C7F712A3985A}" type="datetime5">
              <a:rPr b="0" lang="en-GB" sz="1400" spc="-1" strike="noStrike">
                <a:solidFill>
                  <a:srgbClr val="1d528d"/>
                </a:solidFill>
                <a:latin typeface="Arial"/>
              </a:rPr>
              <a:t>29 Jul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FBCC-4ABF-4C01-893B-D7C0FC178415}" type="slidenum">
              <a:rPr b="0" lang="en-US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7101-6A11-4FA6-9B88-E0D805C3575A}" type="datetime5">
              <a:rPr b="0" lang="en-GB" sz="1400" spc="-1" strike="noStrike">
                <a:solidFill>
                  <a:srgbClr val="1d528d"/>
                </a:solidFill>
                <a:latin typeface="Arial"/>
              </a:rPr>
              <a:t>29 Jul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0BAA-D4B1-401F-BFD7-A7C19C67CAED}" type="slidenum">
              <a:rPr b="0" lang="en-US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7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eb.telia.com/%7Eu51102888/anims/cartoon4/fightanm.gif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ff"/>
                </a:solidFill>
                <a:latin typeface="Century Gothic"/>
              </a:rPr>
              <a:t>Timing-Predictability of </a:t>
            </a:r>
            <a:br>
              <a:rPr sz="4200"/>
            </a:br>
            <a:r>
              <a:rPr b="0" lang="de-DE" sz="4200" spc="-1" strike="noStrike">
                <a:solidFill>
                  <a:srgbClr val="ffffff"/>
                </a:solidFill>
                <a:latin typeface="Century Gothic"/>
              </a:rPr>
              <a:t>Cache Replacement Polic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99640" y="46526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entury Gothic"/>
              </a:rPr>
              <a:t>Jan Reineke - Daniel Gr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entury Gothic"/>
              </a:rPr>
              <a:t>Christoph Berg - Reinhard Wilhe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entury Gothic"/>
              </a:rPr>
              <a:t>AVACS Virtual Seminar, January 12th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112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Century Gothic"/>
              </a:rPr>
              <a:t>TexPoint fonts used in EMF. 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Century Gothic"/>
              </a:rPr>
              <a:t>Read the TexPoint manual before you delete this box.: </a:t>
            </a:r>
            <a:r>
              <a:rPr b="0" lang="en-US" sz="1800" spc="-1" strike="noStrike">
                <a:solidFill>
                  <a:srgbClr val="1d528d"/>
                </a:solidFill>
                <a:latin typeface="lcmss8"/>
              </a:rPr>
              <a:t>A</a:t>
            </a:r>
            <a:r>
              <a:rPr b="0" lang="en-US" sz="1800" spc="-1" strike="noStrike">
                <a:solidFill>
                  <a:srgbClr val="1d528d"/>
                </a:solidFill>
                <a:latin typeface="cmmi8"/>
              </a:rPr>
              <a:t>A</a:t>
            </a:r>
            <a:r>
              <a:rPr b="0" lang="en-US" sz="1800" spc="-1" strike="noStrike">
                <a:solidFill>
                  <a:srgbClr val="1d528d"/>
                </a:solidFill>
                <a:latin typeface="cmsy8"/>
              </a:rPr>
              <a:t>A</a:t>
            </a:r>
            <a:r>
              <a:rPr b="0" lang="en-US" sz="1800" spc="-1" strike="noStrike">
                <a:solidFill>
                  <a:srgbClr val="1d528d"/>
                </a:solidFill>
                <a:latin typeface="cmex10"/>
              </a:rPr>
              <a:t>A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Predictability in Timing Contex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010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Hard real-time system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Strict timing constraint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Need to derive upper bounds on WCE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85840" y="3645000"/>
            <a:ext cx="8176320" cy="2554200"/>
            <a:chOff x="285840" y="3645000"/>
            <a:chExt cx="8176320" cy="2554200"/>
          </a:xfrm>
        </p:grpSpPr>
        <p:sp>
          <p:nvSpPr>
            <p:cNvPr id="229" name=""/>
            <p:cNvSpPr/>
            <p:nvPr/>
          </p:nvSpPr>
          <p:spPr>
            <a:xfrm flipV="1">
              <a:off x="2159280" y="3852360"/>
              <a:ext cx="0" cy="129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85840" y="3645000"/>
              <a:ext cx="8176320" cy="2554200"/>
              <a:chOff x="285840" y="3645000"/>
              <a:chExt cx="8176320" cy="2554200"/>
            </a:xfrm>
          </p:grpSpPr>
          <p:graphicFrame>
            <p:nvGraphicFramePr>
              <p:cNvPr id="231" name=""/>
              <p:cNvGraphicFramePr/>
              <p:nvPr/>
            </p:nvGraphicFramePr>
            <p:xfrm>
              <a:off x="2000520" y="3645000"/>
              <a:ext cx="5715000" cy="2554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3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00520" y="3645000"/>
                        <a:ext cx="571500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3" name=""/>
              <p:cNvSpPr/>
              <p:nvPr/>
            </p:nvSpPr>
            <p:spPr>
              <a:xfrm>
                <a:off x="7635240" y="5076720"/>
                <a:ext cx="82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entury Gothic"/>
                  </a:rPr>
                  <a:t>time</a:t>
                </a:r>
                <a:endParaRPr b="0" lang="en-US" sz="2400" spc="-1" strike="noStrike">
                  <a:solidFill>
                    <a:srgbClr val="1d528d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85840" y="3852720"/>
                <a:ext cx="184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Century Gothic"/>
                  </a:rPr>
                  <a:t>distribution</a:t>
                </a:r>
                <a:endParaRPr b="0" lang="en-US" sz="2400" spc="-1" strike="noStrike">
                  <a:solidFill>
                    <a:srgbClr val="1d528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" name=""/>
          <p:cNvSpPr/>
          <p:nvPr/>
        </p:nvSpPr>
        <p:spPr>
          <a:xfrm>
            <a:off x="437400" y="6021360"/>
            <a:ext cx="55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d528d"/>
                </a:solidFill>
                <a:latin typeface="Century Gothic"/>
              </a:rPr>
              <a:t>{W|A}CET = {Worst|Average}-Case Execution Time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450-0869-4E46-BD65-0AFD690D810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4534E-D3D1-4F91-94A1-4522F2BA6054}" type="datetime5">
              <a:rPr lang="en-US"/>
              <a:t>Jul 29, 20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Uncertainty in Cache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828800"/>
          <a:ext cx="8077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077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1EFB-8108-4CFA-B93A-46FFAEF7A8B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84309-F78A-45D0-9361-956C4DB8347E}" type="datetime5">
              <a:rPr lang="en-US"/>
              <a:t>Jul 29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Metrics of Predictability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09480" y="1600200"/>
          <a:ext cx="5486400" cy="46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5486400" cy="46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486400" y="2209680"/>
          <a:ext cx="3261960" cy="1579320"/>
        </p:xfrm>
        <a:graphic>
          <a:graphicData uri="http://schemas.openxmlformats.org/drawingml/2006/table">
            <a:tbl>
              <a:tblPr/>
              <a:tblGrid>
                <a:gridCol w="3261960"/>
              </a:tblGrid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Two  Variants: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M = Misses Only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HM = Hits &amp; Misses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5791320" y="1173240"/>
            <a:ext cx="3174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1d528d"/>
                </a:solidFill>
                <a:latin typeface="Century Gothic"/>
              </a:rPr>
              <a:t>evict &amp; fill</a:t>
            </a:r>
            <a:endParaRPr b="0" lang="en-US" sz="4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27520" y="508464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entury Gothic"/>
              </a:rPr>
              <a:t>[d,c,x]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24000" y="5013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2E6-1F96-41B7-ADD7-5660B06158B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C48F1-7367-4965-A322-FAFB81B074C0}" type="datetime5">
              <a:rPr lang="en-US"/>
              <a:t>Jul 29, 20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Meaning of evict/fill -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5280" y="2057400"/>
            <a:ext cx="86407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Evict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When do we gain any </a:t>
            </a:r>
            <a:r>
              <a:rPr b="0" i="1" lang="de-DE" sz="2800" spc="-1" strike="noStrike">
                <a:solidFill>
                  <a:srgbClr val="1d528d"/>
                </a:solidFill>
                <a:latin typeface="Century Gothic"/>
              </a:rPr>
              <a:t>may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-information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Safe information about Cache Misse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Fill: </a:t>
            </a:r>
            <a:r>
              <a:rPr b="0" i="1" lang="de-DE" sz="3200" spc="-1" strike="noStrike">
                <a:solidFill>
                  <a:srgbClr val="1d528d"/>
                </a:solidFill>
                <a:latin typeface="Century Gothic"/>
              </a:rPr>
              <a:t>must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-information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When do we gain </a:t>
            </a:r>
            <a:r>
              <a:rPr b="0" i="1" lang="de-DE" sz="2800" spc="-1" strike="noStrike">
                <a:solidFill>
                  <a:srgbClr val="1d528d"/>
                </a:solidFill>
                <a:latin typeface="Century Gothic"/>
              </a:rPr>
              <a:t>precise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must-information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Safe information about Cache Hit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959-895F-43CF-8955-1085BCE6BE8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9BF8E-C167-48BC-9F09-A9D3B8D7B04B}" type="datetime5">
              <a:rPr lang="en-US"/>
              <a:t>Jul 29, 20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Meaning of evict/fill -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2149560"/>
            <a:ext cx="80010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Metrics are independent of analyses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evict/fill bound the precision of any static analysis!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Allows to analyze an analysis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Is it as precise as it gets w.r.t. the metrics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389-4944-451E-A40E-164136CC7B0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2DEC5-278C-4130-80EF-3A989BAD3FE8}" type="datetime5">
              <a:rPr lang="en-US"/>
              <a:t>Jul 29, 20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Replacement Polic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LRU – Least Recently Used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Intel Pentium, MIPS 24K/34K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FIFO – First-In First-Out (Round-robin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Intel XScale, ARM9, ARM11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PLRU – Pseudo-LRU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Intel Pentium II+III+IV, PowerPC 75x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MRU – Most Recently Used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93E-78FA-4523-B395-B3409E08DA5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5D288-9277-4666-91A7-8CE9B3C9FDAA}" type="datetime5">
              <a:rPr lang="en-US"/>
              <a:t>Jul 29, 20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74680"/>
            <a:ext cx="7216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LRU - Least Recently U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628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LRU is the simplest case: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After i </a:t>
            </a:r>
            <a:r>
              <a:rPr b="0" lang="de-DE" sz="2400" spc="-1" strike="noStrike">
                <a:solidFill>
                  <a:srgbClr val="1d528d"/>
                </a:solidFill>
                <a:latin typeface="Century Gothic"/>
                <a:ea typeface="Arial"/>
              </a:rPr>
              <a:t>≤ k (associativity) we have exact must-information for i elements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  <a:ea typeface="Arial"/>
              </a:rPr>
              <a:t>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50920" y="3213000"/>
          <a:ext cx="1223640" cy="1822680"/>
        </p:xfrm>
        <a:graphic>
          <a:graphicData uri="http://schemas.openxmlformats.org/drawingml/2006/table">
            <a:tbl>
              <a:tblPr/>
              <a:tblGrid>
                <a:gridCol w="1223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2050920" y="3213000"/>
          <a:ext cx="1296720" cy="1822680"/>
        </p:xfrm>
        <a:graphic>
          <a:graphicData uri="http://schemas.openxmlformats.org/drawingml/2006/table">
            <a:tbl>
              <a:tblPr/>
              <a:tblGrid>
                <a:gridCol w="129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a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5722920" y="3213000"/>
          <a:ext cx="1223640" cy="1822680"/>
        </p:xfrm>
        <a:graphic>
          <a:graphicData uri="http://schemas.openxmlformats.org/drawingml/2006/table">
            <a:tbl>
              <a:tblPr/>
              <a:tblGrid>
                <a:gridCol w="1223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c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b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a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7558200" y="3213000"/>
          <a:ext cx="1296360" cy="1822680"/>
        </p:xfrm>
        <a:graphic>
          <a:graphicData uri="http://schemas.openxmlformats.org/drawingml/2006/table">
            <a:tbl>
              <a:tblPr/>
              <a:tblGrid>
                <a:gridCol w="129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d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c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b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a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3922560" y="3213000"/>
          <a:ext cx="1223640" cy="1822680"/>
        </p:xfrm>
        <a:graphic>
          <a:graphicData uri="http://schemas.openxmlformats.org/drawingml/2006/table">
            <a:tbl>
              <a:tblPr/>
              <a:tblGrid>
                <a:gridCol w="1223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b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a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2843280" y="5373720"/>
            <a:ext cx="5256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de-DE" sz="36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3600" spc="-1" strike="noStrike">
                <a:solidFill>
                  <a:srgbClr val="1d528d"/>
                </a:solidFill>
                <a:latin typeface="Century Gothic"/>
              </a:rPr>
              <a:t>evict(k) = fill(k) = k</a:t>
            </a:r>
            <a:endParaRPr b="0" lang="en-US" sz="36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546200" y="3573360"/>
            <a:ext cx="433080" cy="576360"/>
            <a:chOff x="1546200" y="3573360"/>
            <a:chExt cx="433080" cy="576360"/>
          </a:xfrm>
        </p:grpSpPr>
        <p:sp>
          <p:nvSpPr>
            <p:cNvPr id="261" name=""/>
            <p:cNvSpPr/>
            <p:nvPr/>
          </p:nvSpPr>
          <p:spPr>
            <a:xfrm>
              <a:off x="1546200" y="4149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57720" y="357336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a</a:t>
              </a:r>
              <a:endParaRPr b="0" lang="en-US" sz="2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419640" y="3573360"/>
            <a:ext cx="433080" cy="576360"/>
            <a:chOff x="3419640" y="3573360"/>
            <a:chExt cx="433080" cy="576360"/>
          </a:xfrm>
        </p:grpSpPr>
        <p:sp>
          <p:nvSpPr>
            <p:cNvPr id="264" name=""/>
            <p:cNvSpPr/>
            <p:nvPr/>
          </p:nvSpPr>
          <p:spPr>
            <a:xfrm>
              <a:off x="3419640" y="4149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26840" y="35733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b</a:t>
              </a:r>
              <a:endParaRPr b="0" lang="en-US" sz="2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219640" y="3573360"/>
            <a:ext cx="433080" cy="576360"/>
            <a:chOff x="5219640" y="3573360"/>
            <a:chExt cx="433080" cy="576360"/>
          </a:xfrm>
        </p:grpSpPr>
        <p:sp>
          <p:nvSpPr>
            <p:cNvPr id="267" name=""/>
            <p:cNvSpPr/>
            <p:nvPr/>
          </p:nvSpPr>
          <p:spPr>
            <a:xfrm>
              <a:off x="5219640" y="4149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43400" y="35733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020000" y="3573360"/>
            <a:ext cx="433080" cy="576360"/>
            <a:chOff x="7020000" y="3573360"/>
            <a:chExt cx="433080" cy="576360"/>
          </a:xfrm>
        </p:grpSpPr>
        <p:sp>
          <p:nvSpPr>
            <p:cNvPr id="270" name=""/>
            <p:cNvSpPr/>
            <p:nvPr/>
          </p:nvSpPr>
          <p:spPr>
            <a:xfrm>
              <a:off x="7020000" y="4149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27200" y="35733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7BA1-AE66-4F95-A53E-597902DFAF7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FA4A0-F37E-4E55-9D9A-8AAC52D1BF3B}" type="datetime5">
              <a:rPr lang="en-US"/>
              <a:t>Jul 29, 20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520" y="274680"/>
            <a:ext cx="7216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FIFO – First-In First-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Like LRU in the miss-case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But hits do </a:t>
            </a:r>
            <a:r>
              <a:rPr b="1" lang="de-DE" sz="3200" spc="-1" strike="noStrike">
                <a:solidFill>
                  <a:srgbClr val="1d528d"/>
                </a:solidFill>
                <a:latin typeface="Century Gothic"/>
              </a:rPr>
              <a:t>not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 change the state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50920" y="3213000"/>
          <a:ext cx="1223640" cy="1822680"/>
        </p:xfrm>
        <a:graphic>
          <a:graphicData uri="http://schemas.openxmlformats.org/drawingml/2006/table">
            <a:tbl>
              <a:tblPr/>
              <a:tblGrid>
                <a:gridCol w="1223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2050920" y="3213000"/>
          <a:ext cx="1296720" cy="1822680"/>
        </p:xfrm>
        <a:graphic>
          <a:graphicData uri="http://schemas.openxmlformats.org/drawingml/2006/table">
            <a:tbl>
              <a:tblPr/>
              <a:tblGrid>
                <a:gridCol w="129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5722920" y="3213000"/>
          <a:ext cx="1223640" cy="1822680"/>
        </p:xfrm>
        <a:graphic>
          <a:graphicData uri="http://schemas.openxmlformats.org/drawingml/2006/table">
            <a:tbl>
              <a:tblPr/>
              <a:tblGrid>
                <a:gridCol w="1223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7558200" y="3213000"/>
          <a:ext cx="1296360" cy="1822680"/>
        </p:xfrm>
        <a:graphic>
          <a:graphicData uri="http://schemas.openxmlformats.org/drawingml/2006/table">
            <a:tbl>
              <a:tblPr/>
              <a:tblGrid>
                <a:gridCol w="129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3922560" y="3213000"/>
          <a:ext cx="1224000" cy="182268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1546200" y="3573360"/>
            <a:ext cx="433080" cy="576360"/>
            <a:chOff x="1546200" y="3573360"/>
            <a:chExt cx="433080" cy="576360"/>
          </a:xfrm>
        </p:grpSpPr>
        <p:sp>
          <p:nvSpPr>
            <p:cNvPr id="280" name=""/>
            <p:cNvSpPr/>
            <p:nvPr/>
          </p:nvSpPr>
          <p:spPr>
            <a:xfrm>
              <a:off x="1546200" y="4149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57720" y="357336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a</a:t>
              </a:r>
              <a:endParaRPr b="0" lang="en-US" sz="2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419640" y="3573360"/>
            <a:ext cx="433080" cy="576360"/>
            <a:chOff x="3419640" y="3573360"/>
            <a:chExt cx="433080" cy="576360"/>
          </a:xfrm>
        </p:grpSpPr>
        <p:sp>
          <p:nvSpPr>
            <p:cNvPr id="283" name=""/>
            <p:cNvSpPr/>
            <p:nvPr/>
          </p:nvSpPr>
          <p:spPr>
            <a:xfrm>
              <a:off x="3419640" y="4149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26840" y="35733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b</a:t>
              </a:r>
              <a:endParaRPr b="0" lang="en-US" sz="2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219640" y="3573360"/>
            <a:ext cx="433080" cy="576360"/>
            <a:chOff x="5219640" y="3573360"/>
            <a:chExt cx="433080" cy="576360"/>
          </a:xfrm>
        </p:grpSpPr>
        <p:sp>
          <p:nvSpPr>
            <p:cNvPr id="286" name=""/>
            <p:cNvSpPr/>
            <p:nvPr/>
          </p:nvSpPr>
          <p:spPr>
            <a:xfrm>
              <a:off x="5219640" y="4149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43400" y="35733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7020000" y="3573360"/>
            <a:ext cx="433080" cy="576360"/>
            <a:chOff x="7020000" y="3573360"/>
            <a:chExt cx="433080" cy="576360"/>
          </a:xfrm>
        </p:grpSpPr>
        <p:sp>
          <p:nvSpPr>
            <p:cNvPr id="289" name=""/>
            <p:cNvSpPr/>
            <p:nvPr/>
          </p:nvSpPr>
          <p:spPr>
            <a:xfrm>
              <a:off x="7020000" y="414972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27200" y="35733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3C47-50ED-466C-8A25-38C990A854F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1CAB7-8ED6-4292-B49B-872632B3BFEC}" type="datetime5">
              <a:rPr lang="en-US"/>
              <a:t>Jul 29, 20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MRU - Most Recently U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MRU-bit records whether line was recently used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Problem: never stabilize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52480" y="2895480"/>
            <a:ext cx="6172200" cy="2411280"/>
            <a:chOff x="1752480" y="2895480"/>
            <a:chExt cx="6172200" cy="2411280"/>
          </a:xfrm>
        </p:grpSpPr>
        <p:pic>
          <p:nvPicPr>
            <p:cNvPr id="294" name="" descr=""/>
            <p:cNvPicPr/>
            <p:nvPr/>
          </p:nvPicPr>
          <p:blipFill>
            <a:blip r:embed="rId1"/>
            <a:stretch/>
          </p:blipFill>
          <p:spPr>
            <a:xfrm>
              <a:off x="2666880" y="2895480"/>
              <a:ext cx="3710160" cy="2411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95" name=""/>
            <p:cNvGraphicFramePr/>
            <p:nvPr/>
          </p:nvGraphicFramePr>
          <p:xfrm>
            <a:off x="1752480" y="3124080"/>
            <a:ext cx="817560" cy="946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480" y="3124080"/>
                      <a:ext cx="817560" cy="94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"/>
            <p:cNvGraphicFramePr/>
            <p:nvPr/>
          </p:nvGraphicFramePr>
          <p:xfrm>
            <a:off x="1752480" y="4114440"/>
            <a:ext cx="817560" cy="94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752480" y="4114440"/>
                      <a:ext cx="817560" cy="94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9" name=""/>
            <p:cNvGraphicFramePr/>
            <p:nvPr/>
          </p:nvGraphicFramePr>
          <p:xfrm>
            <a:off x="6400800" y="3809880"/>
            <a:ext cx="1523880" cy="817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00800" y="3809880"/>
                      <a:ext cx="1523880" cy="81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01" name="" descr=""/>
          <p:cNvPicPr/>
          <p:nvPr/>
        </p:nvPicPr>
        <p:blipFill>
          <a:blip r:embed="rId8"/>
          <a:stretch/>
        </p:blipFill>
        <p:spPr>
          <a:xfrm>
            <a:off x="2666880" y="2897280"/>
            <a:ext cx="3710160" cy="24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943600" y="5257800"/>
          <a:ext cx="2692440" cy="1190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5257800"/>
                    <a:ext cx="269244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7823520" y="3860640"/>
            <a:ext cx="5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,e</a:t>
            </a:r>
            <a:endParaRPr b="0" lang="en-US" sz="36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CE28-8378-46F4-AA60-BCA9186CC86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B880C-20FC-4C4C-A16D-B9408C949A02}" type="datetime5">
              <a:rPr lang="en-US"/>
              <a:t>Jul 29, 20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7061040" cy="19558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84000" y="1844640"/>
            <a:ext cx="80010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Tree maintains order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Problem: accesses „rejuvenate“ neighborhood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Pseudo-LR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95480" y="3048120"/>
            <a:ext cx="58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62720" y="3048120"/>
            <a:ext cx="58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6C9-F77A-4650-9541-5530A2ACD66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D279F-1771-4C71-A702-963232380075}" type="datetime5">
              <a:rPr lang="en-US"/>
              <a:t>Jul 29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Predictability in Timing Contex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010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Hard real-time system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Strict timing constraint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Need to derive upper bounds on WCE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85840" y="3645000"/>
            <a:ext cx="8176320" cy="2554200"/>
            <a:chOff x="285840" y="3645000"/>
            <a:chExt cx="8176320" cy="2554200"/>
          </a:xfrm>
        </p:grpSpPr>
        <p:sp>
          <p:nvSpPr>
            <p:cNvPr id="119" name=""/>
            <p:cNvSpPr/>
            <p:nvPr/>
          </p:nvSpPr>
          <p:spPr>
            <a:xfrm flipV="1">
              <a:off x="2159280" y="3852360"/>
              <a:ext cx="0" cy="129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85840" y="3645000"/>
              <a:ext cx="8176320" cy="2554200"/>
              <a:chOff x="285840" y="3645000"/>
              <a:chExt cx="8176320" cy="2554200"/>
            </a:xfrm>
          </p:grpSpPr>
          <p:graphicFrame>
            <p:nvGraphicFramePr>
              <p:cNvPr id="121" name=""/>
              <p:cNvGraphicFramePr/>
              <p:nvPr/>
            </p:nvGraphicFramePr>
            <p:xfrm>
              <a:off x="2000520" y="3645000"/>
              <a:ext cx="5715000" cy="2554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00520" y="3645000"/>
                        <a:ext cx="571500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3" name=""/>
              <p:cNvSpPr/>
              <p:nvPr/>
            </p:nvSpPr>
            <p:spPr>
              <a:xfrm>
                <a:off x="7635240" y="5076720"/>
                <a:ext cx="82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entury Gothic"/>
                  </a:rPr>
                  <a:t>time</a:t>
                </a:r>
                <a:endParaRPr b="0" lang="en-US" sz="2400" spc="-1" strike="noStrike">
                  <a:solidFill>
                    <a:srgbClr val="1d528d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5840" y="3852720"/>
                <a:ext cx="184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Century Gothic"/>
                  </a:rPr>
                  <a:t>distribution</a:t>
                </a:r>
                <a:endParaRPr b="0" lang="en-US" sz="2400" spc="-1" strike="noStrike">
                  <a:solidFill>
                    <a:srgbClr val="1d528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"/>
          <p:cNvSpPr/>
          <p:nvPr/>
        </p:nvSpPr>
        <p:spPr>
          <a:xfrm>
            <a:off x="437400" y="6021360"/>
            <a:ext cx="55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d528d"/>
                </a:solidFill>
                <a:latin typeface="Century Gothic"/>
              </a:rPr>
              <a:t>{W|A}CET = {Worst|Average}-Case Execution Time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48360" y="3716280"/>
            <a:ext cx="2448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entury Gothic"/>
              </a:rPr>
              <a:t>Predictability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34D-943D-4C4F-8C35-C6E9827B99F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56825-A7FA-47A1-8D4F-8F9E8E6AA3FE}" type="datetime5">
              <a:rPr lang="en-US"/>
              <a:t>Jul 29, 20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92000" y="404280"/>
            <a:ext cx="6629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Results: tight bou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209080" cy="189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2" name=""/>
          <p:cNvGraphicFramePr/>
          <p:nvPr/>
        </p:nvGraphicFramePr>
        <p:xfrm>
          <a:off x="9685440" y="3573360"/>
          <a:ext cx="213336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85440" y="3573360"/>
                    <a:ext cx="2133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9342360" y="4137120"/>
            <a:ext cx="2930760" cy="930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8880" y="4869000"/>
            <a:ext cx="82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1d528d"/>
                </a:solidFill>
                <a:latin typeface="Century Gothic"/>
              </a:rPr>
              <a:t>Parametric examples prove tightness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C2B-FB88-4C95-AC49-AD1B9368AF31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66A9A-AC85-4083-9681-3DBE1C489665}" type="datetime5">
              <a:rPr lang="en-US"/>
              <a:t>Jul 29, 20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520" y="274680"/>
            <a:ext cx="7162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Results: instances for k=4,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1897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50920" y="3809880"/>
            <a:ext cx="8785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Question: 8-way PLRU cache,</a:t>
            </a:r>
            <a:r>
              <a:rPr b="0" i="1" lang="de-DE" sz="24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4 instructions per line</a:t>
            </a:r>
            <a:r>
              <a:rPr b="0" i="1" lang="de-DE" sz="24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Assume equal distribution of instructions over 256 sets: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How long a straight-line code sequence is needed to obtain precise must-information?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4504-52EF-4213-A854-D540BF4AF939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4FAD2-2CDE-4245-87B8-2790173354EC}" type="datetime5">
              <a:rPr lang="en-US"/>
              <a:t>Jul 29, 20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entury Gothic"/>
              </a:rPr>
              <a:t>Can we do something cheap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Analyses that reach perfect precision can be very expensive!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Minimum Live-Span (</a:t>
            </a:r>
            <a:r>
              <a:rPr b="1" lang="de-DE" sz="3200" spc="-1" strike="noStrike">
                <a:solidFill>
                  <a:srgbClr val="1d528d"/>
                </a:solidFill>
                <a:latin typeface="Century Gothic"/>
              </a:rPr>
              <a:t>mls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): How long does an element at least survive in the cache?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Enables cheap analysis that just keeps track of the last </a:t>
            </a:r>
            <a:r>
              <a:rPr b="1" lang="de-DE" sz="3200" spc="-1" strike="noStrike">
                <a:solidFill>
                  <a:srgbClr val="1d528d"/>
                </a:solidFill>
                <a:latin typeface="Century Gothic"/>
              </a:rPr>
              <a:t>mls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 accesses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B316-D852-4DFB-8201-16B727B24B7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3266E-6E03-4331-9512-C9380CC9CC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274680"/>
            <a:ext cx="69278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entury Gothic"/>
              </a:rPr>
              <a:t>Minimum Live-Span -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3961080" cy="24894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5076720" y="2852640"/>
            <a:ext cx="3219480" cy="331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FB6-2AC1-45D6-A11B-4F661BD91D8D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079CE-52F6-492D-8CB8-CC56B5C554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4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entury Gothic"/>
              </a:rPr>
              <a:t>Evolution of may/must-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8084880" cy="3643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84360" y="162864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Century Gothic"/>
              </a:rPr>
              <a:t>8-way LRU: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956720" y="328464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767-2D84-4857-AAC1-F469FDDDCF15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DF6E5-8657-415C-BB0D-F3750C5DAEAA}" type="datetime5">
              <a:rPr lang="en-US"/>
              <a:t>Jul 29, 20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4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entury Gothic"/>
              </a:rPr>
              <a:t>Evolution of may/must-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162864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Century Gothic"/>
              </a:rPr>
              <a:t>8-way FIFO: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826920" y="2282760"/>
            <a:ext cx="7634520" cy="41194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737120" y="422100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CC90-EF09-4C78-BCDA-C153111E2268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FF188-F2E8-4D16-AFE3-337C3024FEFE}" type="datetime5">
              <a:rPr lang="en-US"/>
              <a:t>Jul 29, 20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4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entury Gothic"/>
              </a:rPr>
              <a:t>Evolution of may/must-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4360" y="1628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Century Gothic"/>
              </a:rPr>
              <a:t>8-way MRU: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848360" cy="41446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7660800" y="31384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2k-2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736400" y="429264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k-1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9BEF-D1CE-407B-BD13-84693EA6BD7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6D67B-C04B-4983-86C1-CF5E19A68EA8}" type="datetime5">
              <a:rPr lang="en-US"/>
              <a:t>Jul 29, 20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43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entury Gothic"/>
              </a:rPr>
              <a:t>Evolution of may/must-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4360" y="1628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Century Gothic"/>
              </a:rPr>
              <a:t>8-way PLRU: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36000" cy="41018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7808400" y="400536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8C3-CE4D-45A1-9AF4-19075E450582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066CA-0345-4202-A6B4-8CA4052B9A1E}" type="datetime5">
              <a:rPr lang="en-US"/>
              <a:t>Jul 29, 20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76520" y="274680"/>
            <a:ext cx="6999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Concl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072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First analytical results on the predictability of cache replacement policie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LRU is perfect in terms of our predictability metric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FIFO and MRU are particularly bad, especially considering the evolution of must-information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D970-6133-43B8-825A-AB82ABDD6D3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33A79-5A38-4C2B-8A34-8988F081DC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Future 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1d528d"/>
                </a:solidFill>
                <a:latin typeface="Century Gothic"/>
              </a:rPr>
              <a:t>Find </a:t>
            </a:r>
            <a:r>
              <a:rPr b="1" lang="de-DE" sz="3600" spc="-1" strike="noStrike">
                <a:solidFill>
                  <a:srgbClr val="1d528d"/>
                </a:solidFill>
                <a:latin typeface="Century Gothic"/>
              </a:rPr>
              <a:t>new</a:t>
            </a:r>
            <a:r>
              <a:rPr b="0" lang="de-DE" sz="3600" spc="-1" strike="noStrike">
                <a:solidFill>
                  <a:srgbClr val="1d528d"/>
                </a:solidFill>
                <a:latin typeface="Century Gothic"/>
              </a:rPr>
              <a:t> cache replacement policies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Predictable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Cheap to implemen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High (average-case) performance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5C85-00A5-427B-A642-F30013C82C9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AD0D4-64E9-4F62-84AA-C50AFCF29AFC}" type="datetime5">
              <a:rPr lang="en-US"/>
              <a:t>Jul 29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673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Outloo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010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Cache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Static Cache Analysi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Predictability Metrics for 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Cache Replacement Policie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Further Predictability Result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Conclusion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Future Work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B090-78A4-40FD-B45A-C2125915301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3A84D-C588-4BE3-9335-94BCC33C07ED}" type="datetime5">
              <a:rPr lang="en-US"/>
              <a:t>Jul 29, 20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Future 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Analyze cache analyses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Do they ever recover „perfect“ </a:t>
            </a:r>
            <a:r>
              <a:rPr b="0" i="1" lang="de-DE" sz="2800" spc="-1" strike="noStrike">
                <a:solidFill>
                  <a:srgbClr val="1d528d"/>
                </a:solidFill>
                <a:latin typeface="Century Gothic"/>
              </a:rPr>
              <a:t>may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/</a:t>
            </a:r>
            <a:r>
              <a:rPr b="0" i="1" lang="de-DE" sz="2800" spc="-1" strike="noStrike">
                <a:solidFill>
                  <a:srgbClr val="1d528d"/>
                </a:solidFill>
                <a:latin typeface="Century Gothic"/>
              </a:rPr>
              <a:t>must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-information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If so, within evict/fill accesses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Develop precise and efficient analyses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Idea: Remember last </a:t>
            </a:r>
            <a:r>
              <a:rPr b="0" i="1" lang="de-DE" sz="2800" spc="-1" strike="noStrike">
                <a:solidFill>
                  <a:srgbClr val="1d528d"/>
                </a:solidFill>
                <a:latin typeface="Century Gothic"/>
              </a:rPr>
              <a:t>evict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accesse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Problem: Accesses are not pairwise different in practice (cache hits! ;-))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9A3E-FEAD-4957-A67D-8729BF3DE1B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9FF1B-069B-41CA-BC3D-3AD225BD43A3}" type="datetime5">
              <a:rPr lang="en-US"/>
              <a:t>Jul 29, 20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Future Work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69644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Simplify access sequences 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1d528d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&lt;x y z z&gt; </a:t>
            </a:r>
            <a:r>
              <a:rPr b="0" lang="de-DE" sz="2800" spc="-1" strike="noStrike">
                <a:solidFill>
                  <a:srgbClr val="1d528d"/>
                </a:solidFill>
                <a:latin typeface="Wingdings"/>
                <a:ea typeface="Wingdings"/>
              </a:rPr>
              <a:t>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&lt;x y z&gt; 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!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&lt;x z y z&gt; </a:t>
            </a:r>
            <a:r>
              <a:rPr b="0" lang="de-DE" sz="2800" spc="-1" strike="noStrike">
                <a:solidFill>
                  <a:srgbClr val="1d528d"/>
                </a:solidFill>
                <a:latin typeface="Wingdings"/>
                <a:ea typeface="Wingdings"/>
              </a:rPr>
              <a:t>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&lt;x y z&gt; ?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Works for LRU, not for other policies in general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Yields currently leading LRU analysis after additional abstraction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891-20C0-4B40-BED5-BA823316D21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74EB5-2EC8-41BD-85FE-F4E0F4F656A9}" type="datetime5">
              <a:rPr lang="en-US"/>
              <a:t>Jul 29, 20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Future 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2149560"/>
            <a:ext cx="80010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Beyond evict/fill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Evict/fill assume complete uncertainty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What if there is only partial uncertainty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Other useful metrics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6DE1-400B-40E0-9C5A-45CC2F40956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1A1A0-1EBE-4960-B6DA-603E3435EA9C}" type="datetime5">
              <a:rPr lang="en-US"/>
              <a:t>Jul 29, 20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76360" y="30492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The E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447920"/>
            <a:ext cx="6172200" cy="45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0607-BE52-44CB-BCA9-2E8DE3297BFD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BCA28-4AE8-421B-AA6D-982EACF2EE0C}" type="datetime5">
              <a:rPr lang="en-US"/>
              <a:t>Jul 29, 20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600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aches: How they 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Century Gothic"/>
              </a:rPr>
              <a:t>Assume an access to </a:t>
            </a:r>
            <a:r>
              <a:rPr b="1" i="1" lang="en-US" sz="3200" spc="-1" strike="noStrike">
                <a:solidFill>
                  <a:srgbClr val="1d528d"/>
                </a:solidFill>
                <a:latin typeface="Century Gothic"/>
              </a:rPr>
              <a:t>a, </a:t>
            </a:r>
            <a:r>
              <a:rPr b="0" lang="en-US" sz="3200" spc="-1" strike="noStrike">
                <a:solidFill>
                  <a:srgbClr val="1d528d"/>
                </a:solidFill>
                <a:latin typeface="Century Gothic"/>
              </a:rPr>
              <a:t>cases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Block </a:t>
            </a:r>
            <a:r>
              <a:rPr b="1" i="1" lang="en-US" sz="2800" spc="-1" strike="noStrike">
                <a:solidFill>
                  <a:srgbClr val="1d528d"/>
                </a:solidFill>
                <a:latin typeface="Century Gothic"/>
              </a:rPr>
              <a:t>m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 containing </a:t>
            </a:r>
            <a:r>
              <a:rPr b="1" i="1" lang="en-US" sz="2800" spc="-1" strike="noStrike">
                <a:solidFill>
                  <a:srgbClr val="1d528d"/>
                </a:solidFill>
                <a:latin typeface="Century Gothic"/>
              </a:rPr>
              <a:t>a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 in the cache (</a:t>
            </a:r>
            <a:r>
              <a:rPr b="0" i="1" lang="en-US" sz="2800" spc="-1" strike="noStrike">
                <a:solidFill>
                  <a:srgbClr val="1d528d"/>
                </a:solidFill>
                <a:latin typeface="Century Gothic"/>
              </a:rPr>
              <a:t>hit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): </a:t>
            </a:r>
            <a:br>
              <a:rPr sz="2800"/>
            </a:b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request for </a:t>
            </a:r>
            <a:r>
              <a:rPr b="1" i="1" lang="en-US" sz="2800" spc="-1" strike="noStrike">
                <a:solidFill>
                  <a:srgbClr val="1d528d"/>
                </a:solidFill>
                <a:latin typeface="Century Gothic"/>
              </a:rPr>
              <a:t>a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 is served in the next cycl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Block</a:t>
            </a:r>
            <a:r>
              <a:rPr b="0" i="1" lang="en-US" sz="28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1d528d"/>
                </a:solidFill>
                <a:latin typeface="Century Gothic"/>
              </a:rPr>
              <a:t>m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 not in the cache (</a:t>
            </a:r>
            <a:r>
              <a:rPr b="0" i="1" lang="en-US" sz="2800" spc="-1" strike="noStrike">
                <a:solidFill>
                  <a:srgbClr val="1d528d"/>
                </a:solidFill>
                <a:latin typeface="Century Gothic"/>
              </a:rPr>
              <a:t>miss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): </a:t>
            </a:r>
            <a:br>
              <a:rPr sz="2800"/>
            </a:br>
            <a:r>
              <a:rPr b="1" i="1" lang="en-US" sz="2800" spc="-1" strike="noStrike">
                <a:solidFill>
                  <a:srgbClr val="1d528d"/>
                </a:solidFill>
                <a:latin typeface="Century Gothic"/>
              </a:rPr>
              <a:t>m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 is transferred from main memory to the cache, </a:t>
            </a:r>
            <a:br>
              <a:rPr sz="2800"/>
            </a:br>
            <a:r>
              <a:rPr b="1" i="1" lang="en-US" sz="2800" spc="-1" strike="noStrike">
                <a:solidFill>
                  <a:srgbClr val="1d528d"/>
                </a:solidFill>
                <a:latin typeface="Century Gothic"/>
              </a:rPr>
              <a:t>m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 may replace some block in the cache,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1d528d"/>
                </a:solidFill>
                <a:latin typeface="Century Gothic"/>
              </a:rPr>
              <a:t>Replacement policies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: LRU, PLRU, FIFO, ...</a:t>
            </a:r>
            <a:br>
              <a:rPr sz="2800"/>
            </a:b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determine how to update the state of the cache upon an access, especially which line to replac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1ACA-E1D4-4293-866D-D6152390BDA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26250-1C48-4039-B1AD-C47D4D225B87}" type="datetime5">
              <a:rPr lang="en-US"/>
              <a:t>Jul 29, 20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entury Gothic"/>
              </a:rPr>
              <a:t>Results: tight bou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797960" cy="388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B77F-1EF0-4D14-B567-581279545034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516DE-01F4-4D69-AB33-734DF458D4E2}" type="datetime5">
              <a:rPr lang="en-US"/>
              <a:t>Jul 29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8000" y="260280"/>
            <a:ext cx="705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aches: Fast Memory on Ch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447920"/>
            <a:ext cx="871380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Caches are used, becaus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Fast main memory is too expensiv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The speed gap between CPU and memory is too large and increasin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Caches work well in the average case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Programs access data locally (spatial locality)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Programs reuse items (temporal locality)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484360" y="4724280"/>
          <a:ext cx="4248360" cy="1675080"/>
        </p:xfrm>
        <a:graphic>
          <a:graphicData uri="http://schemas.openxmlformats.org/drawingml/2006/table">
            <a:tbl>
              <a:tblPr/>
              <a:tblGrid>
                <a:gridCol w="1727280"/>
                <a:gridCol w="1081080"/>
                <a:gridCol w="1440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Speed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Siz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Register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0.25 n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500 byte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Cach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1 n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64 KB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Main memory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100 n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512 MB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Hard disk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5 ms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100 GB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8A5-F111-483A-B562-6FC9AB2347D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165B7-7D99-4F31-8B29-DE9352748DAC}" type="datetime5">
              <a:rPr lang="en-US"/>
              <a:t>Jul 29, 20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640" y="274680"/>
            <a:ext cx="6913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-Way Set-Associative C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1773360"/>
          <a:ext cx="2879640" cy="579240"/>
        </p:xfrm>
        <a:graphic>
          <a:graphicData uri="http://schemas.openxmlformats.org/drawingml/2006/table">
            <a:tbl>
              <a:tblPr/>
              <a:tblGrid>
                <a:gridCol w="1272960"/>
                <a:gridCol w="814680"/>
                <a:gridCol w="792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Tag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Block offset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95280" y="141300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d528d"/>
                </a:solidFill>
                <a:latin typeface="Century Gothic"/>
              </a:rPr>
              <a:t>Address: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619280" y="3141720"/>
          <a:ext cx="2089080" cy="1004760"/>
        </p:xfrm>
        <a:graphic>
          <a:graphicData uri="http://schemas.openxmlformats.org/drawingml/2006/table">
            <a:tbl>
              <a:tblPr/>
              <a:tblGrid>
                <a:gridCol w="792000"/>
                <a:gridCol w="1297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Tag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Data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395280" y="335772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Century Gothic"/>
              </a:rPr>
              <a:t>Cache Sets: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651640" y="3141720"/>
          <a:ext cx="2089080" cy="1004760"/>
        </p:xfrm>
        <a:graphic>
          <a:graphicData uri="http://schemas.openxmlformats.org/drawingml/2006/table">
            <a:tbl>
              <a:tblPr/>
              <a:tblGrid>
                <a:gridCol w="792000"/>
                <a:gridCol w="1297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Tag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1d528d"/>
                          </a:solidFill>
                          <a:latin typeface="Century Gothic"/>
                        </a:rPr>
                        <a:t>Data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3708360" y="328464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Century Gothic"/>
              </a:rPr>
              <a:t>…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12000" y="2997360"/>
            <a:ext cx="112716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Century Gothic"/>
              </a:rPr>
              <a:t>1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Century Gothic"/>
              </a:rPr>
              <a:t>A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2349360"/>
            <a:ext cx="0" cy="358920"/>
          </a:xfrm>
          <a:prstGeom prst="line">
            <a:avLst/>
          </a:prstGeom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95640" y="2708280"/>
            <a:ext cx="4248000" cy="0"/>
          </a:xfrm>
          <a:prstGeom prst="line">
            <a:avLst/>
          </a:prstGeom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43640" y="2708280"/>
            <a:ext cx="0" cy="433440"/>
          </a:xfrm>
          <a:prstGeom prst="line">
            <a:avLst/>
          </a:prstGeom>
          <a:ln w="1908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3280" y="2349360"/>
            <a:ext cx="0" cy="2664000"/>
          </a:xfrm>
          <a:prstGeom prst="line">
            <a:avLst/>
          </a:prstGeom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5013360"/>
            <a:ext cx="4321080" cy="0"/>
          </a:xfrm>
          <a:prstGeom prst="line">
            <a:avLst/>
          </a:prstGeom>
          <a:ln w="1908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12000" y="4149720"/>
            <a:ext cx="0" cy="574560"/>
          </a:xfrm>
          <a:prstGeom prst="line">
            <a:avLst/>
          </a:prstGeom>
          <a:ln w="1908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4724280"/>
            <a:ext cx="576360" cy="576360"/>
          </a:xfrm>
          <a:prstGeom prst="ellipse">
            <a:avLst/>
          </a:prstGeom>
          <a:noFill/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Century Gothic"/>
              </a:rPr>
              <a:t>=?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2349360"/>
            <a:ext cx="0" cy="142920"/>
          </a:xfrm>
          <a:prstGeom prst="line">
            <a:avLst/>
          </a:prstGeom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2492280"/>
            <a:ext cx="5472000" cy="0"/>
          </a:xfrm>
          <a:prstGeom prst="line">
            <a:avLst/>
          </a:prstGeom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59640" y="2492280"/>
            <a:ext cx="0" cy="2305080"/>
          </a:xfrm>
          <a:prstGeom prst="line">
            <a:avLst/>
          </a:prstGeom>
          <a:ln w="1908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40720" y="4797360"/>
            <a:ext cx="976320" cy="459720"/>
          </a:xfrm>
          <a:prstGeom prst="rect">
            <a:avLst/>
          </a:prstGeom>
          <a:noFill/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1d528d"/>
                </a:solidFill>
                <a:latin typeface="Century Gothic"/>
              </a:rPr>
              <a:t>Mux</a:t>
            </a:r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80360" y="4149720"/>
            <a:ext cx="0" cy="863640"/>
          </a:xfrm>
          <a:prstGeom prst="line">
            <a:avLst/>
          </a:prstGeom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80360" y="5013360"/>
            <a:ext cx="360360" cy="0"/>
          </a:xfrm>
          <a:prstGeom prst="line">
            <a:avLst/>
          </a:prstGeom>
          <a:ln w="1908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44000" y="5300640"/>
            <a:ext cx="0" cy="649440"/>
          </a:xfrm>
          <a:prstGeom prst="line">
            <a:avLst/>
          </a:prstGeom>
          <a:ln w="1908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93040" y="4797360"/>
            <a:ext cx="6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d528d"/>
                </a:solidFill>
                <a:latin typeface="Century Gothic"/>
              </a:rPr>
              <a:t>Yes: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d528d"/>
                </a:solidFill>
                <a:latin typeface="Century Gothic"/>
              </a:rPr>
              <a:t>Hit!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08720" y="5589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Century Gothic"/>
              </a:rPr>
              <a:t>No: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Century Gothic"/>
              </a:rPr>
              <a:t>Miss!</a:t>
            </a: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5300640"/>
            <a:ext cx="0" cy="360360"/>
          </a:xfrm>
          <a:prstGeom prst="line">
            <a:avLst/>
          </a:prstGeom>
          <a:ln w="1908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5013360"/>
            <a:ext cx="360360" cy="0"/>
          </a:xfrm>
          <a:prstGeom prst="line">
            <a:avLst/>
          </a:prstGeom>
          <a:ln w="1908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56720" y="3357720"/>
            <a:ext cx="0" cy="57600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B941-1ED7-4C10-9007-29BBB465A67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00F2C-9990-4E78-9E67-C9A424495F55}" type="datetime5">
              <a:rPr lang="en-US"/>
              <a:t>Jul 29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43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Example: 4-way LRU-S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12720" y="2997360"/>
          <a:ext cx="1451160" cy="1822320"/>
        </p:xfrm>
        <a:graphic>
          <a:graphicData uri="http://schemas.openxmlformats.org/drawingml/2006/table">
            <a:tbl>
              <a:tblPr/>
              <a:tblGrid>
                <a:gridCol w="1451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728640" y="1773360"/>
            <a:ext cx="52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LRU = Least Recently Used</a:t>
            </a:r>
            <a:endParaRPr b="0" lang="en-US" sz="3200" spc="-1" strike="noStrike">
              <a:solidFill>
                <a:srgbClr val="1d528d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348000" y="2997360"/>
          <a:ext cx="1441440" cy="1827000"/>
        </p:xfrm>
        <a:graphic>
          <a:graphicData uri="http://schemas.openxmlformats.org/drawingml/2006/table">
            <a:tbl>
              <a:tblPr/>
              <a:tblGrid>
                <a:gridCol w="144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2197080" y="3213000"/>
            <a:ext cx="1008000" cy="43200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48360" y="1557360"/>
            <a:ext cx="1835280" cy="770040"/>
          </a:xfrm>
          <a:prstGeom prst="rect">
            <a:avLst/>
          </a:prstGeom>
          <a:noFill/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Century Gothic"/>
              </a:rPr>
              <a:t>LRU has a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Century Gothic"/>
              </a:rPr>
              <a:t>notion of Age</a:t>
            </a:r>
            <a:endParaRPr b="0" lang="en-US" sz="20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67640" y="2997360"/>
            <a:ext cx="1320480" cy="1807920"/>
            <a:chOff x="7667640" y="2997360"/>
            <a:chExt cx="1320480" cy="1807920"/>
          </a:xfrm>
        </p:grpSpPr>
        <p:sp>
          <p:nvSpPr>
            <p:cNvPr id="166" name=""/>
            <p:cNvSpPr/>
            <p:nvPr/>
          </p:nvSpPr>
          <p:spPr>
            <a:xfrm>
              <a:off x="7667640" y="299736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1d528d"/>
                  </a:solidFill>
                  <a:latin typeface="Century Gothic"/>
                </a:rPr>
                <a:t>young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67640" y="443700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1d528d"/>
                  </a:solidFill>
                  <a:latin typeface="Century Gothic"/>
                </a:rPr>
                <a:t>old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99280" y="371808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Century Gothic"/>
                </a:rPr>
                <a:t>Age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99280" y="3429000"/>
              <a:ext cx="0" cy="1008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763640" y="4869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Miss on </a:t>
            </a:r>
            <a:r>
              <a:rPr b="1" lang="en-US" sz="2800" spc="-1" strike="noStrike">
                <a:solidFill>
                  <a:srgbClr val="1d528d"/>
                </a:solidFill>
                <a:latin typeface="Century Gothic"/>
              </a:rPr>
              <a:t>s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3716280"/>
            <a:ext cx="1008000" cy="43200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4148280"/>
            <a:ext cx="1008000" cy="43164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84720" y="2997360"/>
          <a:ext cx="1441440" cy="1827000"/>
        </p:xfrm>
        <a:graphic>
          <a:graphicData uri="http://schemas.openxmlformats.org/drawingml/2006/table">
            <a:tbl>
              <a:tblPr/>
              <a:tblGrid>
                <a:gridCol w="144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4933800" y="3213000"/>
            <a:ext cx="1008360" cy="43200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27640" y="4869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Hit on </a:t>
            </a:r>
            <a:r>
              <a:rPr b="1" lang="en-US" sz="2800" spc="-1" strike="noStrike">
                <a:solidFill>
                  <a:srgbClr val="1d528d"/>
                </a:solidFill>
                <a:latin typeface="Century Gothic"/>
              </a:rPr>
              <a:t>y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3716280"/>
            <a:ext cx="1008000" cy="43200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932360" y="4579920"/>
            <a:ext cx="1008000" cy="144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932360" y="3213000"/>
            <a:ext cx="1009800" cy="93672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FF92-C2FF-489A-8569-91EC3F482C9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88A0D-A52E-4505-AA9F-638342E6AD9C}" type="datetime5">
              <a:rPr lang="en-US"/>
              <a:t>Jul 29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ache Analysis: 4-way L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721044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Goal: classify accesses as hits or misse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Usually two analyses: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May-Analysis: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1d528d"/>
                </a:solidFill>
                <a:latin typeface="Century Gothic"/>
              </a:rPr>
              <a:t>For each program point (and calling context): </a:t>
            </a: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Which lines </a:t>
            </a:r>
            <a:r>
              <a:rPr b="1" lang="de-DE" sz="2000" spc="-1" strike="noStrike">
                <a:solidFill>
                  <a:srgbClr val="1d528d"/>
                </a:solidFill>
                <a:latin typeface="Century Gothic"/>
              </a:rPr>
              <a:t>may</a:t>
            </a: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 be in the cache?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20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classify miss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d528d"/>
                </a:solidFill>
                <a:latin typeface="Century Gothic"/>
              </a:rPr>
              <a:t>Must-Analysi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1d528d"/>
                </a:solidFill>
                <a:latin typeface="Century Gothic"/>
              </a:rPr>
              <a:t>For each program point (and calling context): </a:t>
            </a: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Which lines </a:t>
            </a:r>
            <a:r>
              <a:rPr b="1" lang="de-DE" sz="2000" spc="-1" strike="noStrike">
                <a:solidFill>
                  <a:srgbClr val="1d528d"/>
                </a:solidFill>
                <a:latin typeface="Century Gothic"/>
              </a:rPr>
              <a:t>must</a:t>
            </a: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 be in the cache?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	</a:t>
            </a:r>
            <a:r>
              <a:rPr b="0" lang="de-DE" sz="20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000" spc="-1" strike="noStrike">
                <a:solidFill>
                  <a:srgbClr val="1d528d"/>
                </a:solidFill>
                <a:latin typeface="Century Gothic"/>
              </a:rPr>
              <a:t>classify hi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020000" y="2492280"/>
            <a:ext cx="1439280" cy="2952720"/>
            <a:chOff x="7020000" y="2492280"/>
            <a:chExt cx="1439280" cy="2952720"/>
          </a:xfrm>
        </p:grpSpPr>
        <p:sp>
          <p:nvSpPr>
            <p:cNvPr id="182" name=""/>
            <p:cNvSpPr/>
            <p:nvPr/>
          </p:nvSpPr>
          <p:spPr>
            <a:xfrm>
              <a:off x="7451640" y="2852640"/>
              <a:ext cx="575640" cy="287280"/>
            </a:xfrm>
            <a:prstGeom prst="rect">
              <a:avLst/>
            </a:prstGeom>
            <a:noFill/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38920" y="2492280"/>
              <a:ext cx="0" cy="3603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20000" y="3500280"/>
              <a:ext cx="576000" cy="287280"/>
            </a:xfrm>
            <a:prstGeom prst="rect">
              <a:avLst/>
            </a:prstGeom>
            <a:noFill/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83280" y="3500280"/>
              <a:ext cx="576000" cy="287280"/>
            </a:xfrm>
            <a:prstGeom prst="rect">
              <a:avLst/>
            </a:prstGeom>
            <a:noFill/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379640" y="3139920"/>
              <a:ext cx="215640" cy="3603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83280" y="3139920"/>
              <a:ext cx="215640" cy="3603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51640" y="4147920"/>
              <a:ext cx="575640" cy="287640"/>
            </a:xfrm>
            <a:prstGeom prst="rect">
              <a:avLst/>
            </a:prstGeom>
            <a:noFill/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80000" y="3787560"/>
              <a:ext cx="215640" cy="3603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882920" y="3787560"/>
              <a:ext cx="215640" cy="3603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51640" y="4795920"/>
              <a:ext cx="575640" cy="287280"/>
            </a:xfrm>
            <a:prstGeom prst="rect">
              <a:avLst/>
            </a:prstGeom>
            <a:noFill/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38920" y="4437000"/>
              <a:ext cx="0" cy="3603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38920" y="5084640"/>
              <a:ext cx="0" cy="3603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83280" y="5084640"/>
              <a:ext cx="215640" cy="14436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8099280" y="5156280"/>
              <a:ext cx="144000" cy="7128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8243640" y="4653000"/>
              <a:ext cx="0" cy="50328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8099280" y="4579920"/>
              <a:ext cx="144000" cy="7128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882920" y="4579920"/>
              <a:ext cx="215640" cy="216000"/>
            </a:xfrm>
            <a:prstGeom prst="line">
              <a:avLst/>
            </a:prstGeom>
            <a:ln w="2844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83F2-0504-4895-AE6E-1452C3EF9F1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1D7B0-8127-4DAA-BA22-DF9307FD5CFD}" type="datetime5">
              <a:rPr lang="en-US"/>
              <a:t>Jul 29, 20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2803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Must-Analysis for 4-way LRU: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Which lines </a:t>
            </a:r>
            <a:r>
              <a:rPr b="1" lang="de-DE" sz="3200" spc="-1" strike="noStrike">
                <a:solidFill>
                  <a:srgbClr val="1d528d"/>
                </a:solidFill>
                <a:latin typeface="Century Gothic"/>
              </a:rPr>
              <a:t>must</a:t>
            </a: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 be in the cache?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</a:t>
            </a: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abstract domain bounds maximal age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557440" y="3429000"/>
          <a:ext cx="1451160" cy="1822320"/>
        </p:xfrm>
        <a:graphic>
          <a:graphicData uri="http://schemas.openxmlformats.org/drawingml/2006/table">
            <a:tbl>
              <a:tblPr/>
              <a:tblGrid>
                <a:gridCol w="1451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x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s,t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y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292720" y="3429000"/>
          <a:ext cx="1441440" cy="1827360"/>
        </p:xfrm>
        <a:graphic>
          <a:graphicData uri="http://schemas.openxmlformats.org/drawingml/2006/table">
            <a:tbl>
              <a:tblPr/>
              <a:tblGrid>
                <a:gridCol w="144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s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x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t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y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4141800" y="3645000"/>
            <a:ext cx="1006560" cy="50328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440" y="3645000"/>
            <a:ext cx="18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Access of </a:t>
            </a:r>
            <a:r>
              <a:rPr b="1" lang="en-US" sz="2800" spc="-1" strike="noStrike">
                <a:solidFill>
                  <a:srgbClr val="1d528d"/>
                </a:solidFill>
                <a:latin typeface="Century Gothic"/>
              </a:rPr>
              <a:t>s</a:t>
            </a:r>
            <a:r>
              <a:rPr b="0" lang="en-US" sz="2800" spc="-1" strike="noStrike">
                <a:solidFill>
                  <a:srgbClr val="1d528d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4579920"/>
            <a:ext cx="1008000" cy="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140360" y="3644640"/>
            <a:ext cx="1008000" cy="86364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140360" y="5013360"/>
            <a:ext cx="1008000" cy="144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948360" y="3429000"/>
            <a:ext cx="1320480" cy="1807920"/>
            <a:chOff x="6948360" y="3429000"/>
            <a:chExt cx="1320480" cy="1807920"/>
          </a:xfrm>
        </p:grpSpPr>
        <p:sp>
          <p:nvSpPr>
            <p:cNvPr id="209" name=""/>
            <p:cNvSpPr/>
            <p:nvPr/>
          </p:nvSpPr>
          <p:spPr>
            <a:xfrm>
              <a:off x="6948360" y="342900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1d528d"/>
                  </a:solidFill>
                  <a:latin typeface="Century Gothic"/>
                </a:rPr>
                <a:t>young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48360" y="486864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1d528d"/>
                  </a:solidFill>
                  <a:latin typeface="Century Gothic"/>
                </a:rPr>
                <a:t>old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80000" y="414972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Century Gothic"/>
                </a:rPr>
                <a:t>Age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80000" y="3860640"/>
              <a:ext cx="0" cy="1008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4D3-CE7D-42AE-B89B-D66DCBD6824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F90DA-8418-4B01-8A71-1827A42A3862}" type="datetime5">
              <a:rPr lang="en-US"/>
              <a:t>Jul 29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489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Must-Analysis for 4-way LRU: Jo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58435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d528d"/>
                </a:solidFill>
                <a:latin typeface="Century Gothic"/>
              </a:rPr>
              <a:t>How to combine information at control-flow joins?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d528d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050920" y="2492280"/>
          <a:ext cx="1451160" cy="1822680"/>
        </p:xfrm>
        <a:graphic>
          <a:graphicData uri="http://schemas.openxmlformats.org/drawingml/2006/table">
            <a:tbl>
              <a:tblPr/>
              <a:tblGrid>
                <a:gridCol w="1451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x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s,t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y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5364000" y="2492280"/>
          <a:ext cx="1441440" cy="1827360"/>
        </p:xfrm>
        <a:graphic>
          <a:graphicData uri="http://schemas.openxmlformats.org/drawingml/2006/table">
            <a:tbl>
              <a:tblPr/>
              <a:tblGrid>
                <a:gridCol w="144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s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z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x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y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7" name=""/>
          <p:cNvGrpSpPr/>
          <p:nvPr/>
        </p:nvGrpSpPr>
        <p:grpSpPr>
          <a:xfrm>
            <a:off x="6948360" y="2637000"/>
            <a:ext cx="1320480" cy="1807920"/>
            <a:chOff x="6948360" y="2637000"/>
            <a:chExt cx="1320480" cy="1807920"/>
          </a:xfrm>
        </p:grpSpPr>
        <p:sp>
          <p:nvSpPr>
            <p:cNvPr id="218" name=""/>
            <p:cNvSpPr/>
            <p:nvPr/>
          </p:nvSpPr>
          <p:spPr>
            <a:xfrm>
              <a:off x="6948360" y="263700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1d528d"/>
                  </a:solidFill>
                  <a:latin typeface="Century Gothic"/>
                </a:rPr>
                <a:t>young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48360" y="407664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1d528d"/>
                  </a:solidFill>
                  <a:latin typeface="Century Gothic"/>
                </a:rPr>
                <a:t>old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80000" y="3357720"/>
              <a:ext cx="88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Century Gothic"/>
                </a:rPr>
                <a:t>Age</a:t>
              </a:r>
              <a:endParaRPr b="0" lang="en-US" sz="18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80000" y="3068640"/>
              <a:ext cx="0" cy="1008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528d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3708360" y="4653000"/>
          <a:ext cx="1436760" cy="1822320"/>
        </p:xfrm>
        <a:graphic>
          <a:graphicData uri="http://schemas.openxmlformats.org/drawingml/2006/table">
            <a:tbl>
              <a:tblPr/>
              <a:tblGrid>
                <a:gridCol w="1436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s,x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{y}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5442840" y="5180040"/>
            <a:ext cx="219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1d528d"/>
                </a:solidFill>
                <a:latin typeface="Century Gothic"/>
              </a:rPr>
              <a:t>  „</a:t>
            </a:r>
            <a:r>
              <a:rPr b="0" lang="de-DE" sz="2200" spc="-1" strike="noStrike">
                <a:solidFill>
                  <a:srgbClr val="1d528d"/>
                </a:solidFill>
                <a:latin typeface="Century Gothic"/>
              </a:rPr>
              <a:t>Intersection </a:t>
            </a:r>
            <a:endParaRPr b="0" lang="en-US" sz="2200" spc="-1" strike="noStrike">
              <a:solidFill>
                <a:srgbClr val="1d528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1d528d"/>
                </a:solidFill>
                <a:latin typeface="Century Gothic"/>
              </a:rPr>
              <a:t>+ maximal age“</a:t>
            </a:r>
            <a:endParaRPr b="0" lang="en-US" sz="22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4076640"/>
            <a:ext cx="576360" cy="43200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642920" y="4076640"/>
            <a:ext cx="505080" cy="433440"/>
          </a:xfrm>
          <a:prstGeom prst="line">
            <a:avLst/>
          </a:prstGeom>
          <a:ln w="28440">
            <a:solidFill>
              <a:srgbClr val="1d528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528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BFDD-5F7F-4F4F-ADF3-FA3FFDDA720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CF088-D16F-454B-AFAB-D8E63F611CE5}" type="datetime5">
              <a:rPr lang="en-US"/>
              <a:t>Jul 29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4:24:22Z</dcterms:created>
  <dc:creator>Donald Duck</dc:creator>
  <dc:description/>
  <dc:language>en-US</dc:language>
  <cp:lastModifiedBy>Jan Reineke</cp:lastModifiedBy>
  <dcterms:modified xsi:type="dcterms:W3CDTF">2007-01-12T12:11:19Z</dcterms:modified>
  <cp:revision>210</cp:revision>
  <dc:subject/>
  <dc:title>Soft Errors in Caches</dc:title>
</cp:coreProperties>
</file>