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23.gif" ContentType="image/gif"/>
  <Override PartName="/ppt/media/image7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F63A-FB79-421F-989C-F7AB879C662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at are uncertainty and penalty in the context of caches? Cannot classify something as a hit or a miss -&gt; need to assume miss and pay with cache miss penal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enalty is (more or less) independent of replacement policy -&gt; Focus on Uncertai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pper bounds on WCET -&gt; for scheduling analysis -&gt; can all critical tasks be execu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ere are several reasons for uncertainty: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oss of information, introduction of uncertainty, independent of replacement policy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o capture the speed of recovery we have defined two metrics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this is were the cache replacement policy comes into pl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f we start out from complete uncertainty: how a long a sequence of accesses do we need to observer until we reach a state that is completely know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ow long does it take until the cache set may only contain elements from the sequence, that is all unknown contents have been elimin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ame is misleading: It does not replace the most-recently-used element as you might exp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pper bounds on WCET -&gt; for scheduling analysis -&gt; can all critical tasks be execu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py this slide to position 2? To get the whole talk goi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lche Reihenfolge? Konsequenzen der Zahlen wiederholen, z.B. instruction cache, straight-line code, wieviele zeilen um gesicherte may-information zu hab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plain values for LRU, FIFO, MRU and PL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IFO: Hit to „oldest“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RU: Access of left-most element just before „big bang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LRU: Access Path after access 0…0 needs to be turned to 1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RU is expen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road audience -&gt; what are cac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ow to derive safe upper bounds -&gt; static cache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e of the talk -&gt; predictability metrics (how suitable is a cache replacement policy for proving tight upper bou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ome more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uture Work based on the results and on the shortco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ODO: possibly not assuming pairwise different ac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ches have a huge impact on the timing behaviour of a task -&gt; very important for timing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at happens on a memory acc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ind out whether element is contained in the 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f so, retriev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f not, fetch it from main mem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. Why not fully-associative? -&gt; too expensive, too many comparisons, determination of cache hit would take too long + update logic more expensive as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. Usually, cache sets are independent of each other -&gt; can analyze cache sets independ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. Spatial locality (load lines not single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4. Temporal locality (-&gt; replacement policy on hits and mis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y is this a good idea? Rationale of LRU replacement: An element that has recently been accessed is more likely to be accessed in the future -&gt; we want to keep 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losing: this should give you an idea of how caches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ta-Flow Analysis over Control-Flow Graph: Transfer functions + Join 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o how does an analysis for LRU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ncrete cache states represented by the two abstract sta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ow that you have a rough idea of cache analysis we can come back to the real topic of the talk: predictability of cache replacement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6C7-B2B5-4FC3-B4B1-D75066B0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66D-E9F8-4305-8B21-D427ACCB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09F-4923-452B-B8C4-259B6CE5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866-C53E-4F3C-AFFF-C26A3874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6F5C-1C88-461F-92EE-F197AC49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1276-62E2-4811-9E86-1D02F3BD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8EE0-0244-4126-B50B-E7ECD0B8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B587-18C8-40EC-9727-20CE0E73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06DC-7E8D-4704-800C-2BAEC0A0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BAB3-82F4-4B65-B850-D9B2895B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BF16-3F00-48D5-8145-FFB49C1A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882-3D4C-45C3-B7C8-566B69CC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C40F-1858-4D4A-8614-1FA08F15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932A-BCC9-4329-BBD1-C8066C98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6B02-F32D-4E2A-BDE2-B1B30A56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8DE5-4D2D-4EA4-9803-F0F46654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BC00-F0FC-40F9-A1C6-A69E3280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778-9595-40B2-A783-134F2041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DB4-931D-4BBB-9B3B-1F5A9A9B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316F-1632-41A0-89B9-8FB007DD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004-9FB7-4F4B-8B1F-FB4667CC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D05-65CD-4975-B7AF-8850AC0D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0A2-87DC-454B-8A35-91AE9265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67FD-BA88-42B8-B7A3-740DF0E2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9B1D-FD39-4843-BDED-A25BDE81AB5F}" type="datetime5">
              <a:rPr b="0" lang="en-GB" sz="1400" spc="-1" strike="noStrike">
                <a:solidFill>
                  <a:srgbClr val="1d528d"/>
                </a:solidFill>
                <a:latin typeface="Arial"/>
              </a:rPr>
              <a:t>31 Jul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FF12-9443-4D85-80A7-975FB7C20BEE}" type="slidenum">
              <a:rPr b="0" lang="en-US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9F8A-F8FF-4926-9B32-974D00964420}" type="datetime5">
              <a:rPr b="0" lang="en-GB" sz="1400" spc="-1" strike="noStrike">
                <a:solidFill>
                  <a:srgbClr val="1d528d"/>
                </a:solidFill>
                <a:latin typeface="Arial"/>
              </a:rPr>
              <a:t>31 Jul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8367-1B79-4929-AD80-6488A5DABF38}" type="slidenum">
              <a:rPr b="0" lang="en-US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7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eb.telia.com/%7Eu51102888/anims/cartoon4/fightanm.gif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ff"/>
                </a:solidFill>
                <a:latin typeface="Century Gothic"/>
              </a:rPr>
              <a:t>Timing-Predictability of </a:t>
            </a:r>
            <a:br>
              <a:rPr sz="4200"/>
            </a:br>
            <a:r>
              <a:rPr b="0" lang="de-DE" sz="4200" spc="-1" strike="noStrike">
                <a:solidFill>
                  <a:srgbClr val="ffffff"/>
                </a:solidFill>
                <a:latin typeface="Century Gothic"/>
              </a:rPr>
              <a:t>Cache Replacement Polic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99640" y="46526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entury Gothic"/>
              </a:rPr>
              <a:t>Jan Reineke - Daniel Gr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entury Gothic"/>
              </a:rPr>
              <a:t>Christoph Berg - Reinhard Wilhe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AVACS Virtual Seminar, January 12th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112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TexPoint fonts used in EMF. 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Read the TexPoint manual before you delete this box.: </a:t>
            </a:r>
            <a:r>
              <a:rPr b="0" lang="en-US" sz="1800" spc="-1" strike="noStrike">
                <a:solidFill>
                  <a:srgbClr val="1d528d"/>
                </a:solidFill>
                <a:latin typeface="lcmss8"/>
              </a:rPr>
              <a:t>A</a:t>
            </a:r>
            <a:r>
              <a:rPr b="0" lang="en-US" sz="1800" spc="-1" strike="noStrike">
                <a:solidFill>
                  <a:srgbClr val="1d528d"/>
                </a:solidFill>
                <a:latin typeface="cmmi8"/>
              </a:rPr>
              <a:t>A</a:t>
            </a:r>
            <a:r>
              <a:rPr b="0" lang="en-US" sz="1800" spc="-1" strike="noStrike">
                <a:solidFill>
                  <a:srgbClr val="1d528d"/>
                </a:solidFill>
                <a:latin typeface="cmsy8"/>
              </a:rPr>
              <a:t>A</a:t>
            </a:r>
            <a:r>
              <a:rPr b="0" lang="en-US" sz="1800" spc="-1" strike="noStrike">
                <a:solidFill>
                  <a:srgbClr val="1d528d"/>
                </a:solidFill>
                <a:latin typeface="cmex10"/>
              </a:rPr>
              <a:t>A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Predictability in Timing Contex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010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Hard real-time system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Strict timing constraint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Need to derive upper bounds on WCE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5840" y="3645000"/>
            <a:ext cx="8176320" cy="2554200"/>
            <a:chOff x="285840" y="3645000"/>
            <a:chExt cx="8176320" cy="2554200"/>
          </a:xfrm>
        </p:grpSpPr>
        <p:sp>
          <p:nvSpPr>
            <p:cNvPr id="229" name=""/>
            <p:cNvSpPr/>
            <p:nvPr/>
          </p:nvSpPr>
          <p:spPr>
            <a:xfrm flipV="1">
              <a:off x="2159280" y="3852360"/>
              <a:ext cx="0" cy="129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85840" y="3645000"/>
              <a:ext cx="8176320" cy="2554200"/>
              <a:chOff x="285840" y="3645000"/>
              <a:chExt cx="8176320" cy="2554200"/>
            </a:xfrm>
          </p:grpSpPr>
          <p:graphicFrame>
            <p:nvGraphicFramePr>
              <p:cNvPr id="231" name=""/>
              <p:cNvGraphicFramePr/>
              <p:nvPr/>
            </p:nvGraphicFramePr>
            <p:xfrm>
              <a:off x="2000520" y="3645000"/>
              <a:ext cx="5715000" cy="2554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00520" y="3645000"/>
                        <a:ext cx="571500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3" name=""/>
              <p:cNvSpPr/>
              <p:nvPr/>
            </p:nvSpPr>
            <p:spPr>
              <a:xfrm>
                <a:off x="7635240" y="5076720"/>
                <a:ext cx="82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entury Gothic"/>
                  </a:rPr>
                  <a:t>time</a:t>
                </a:r>
                <a:endParaRPr b="0" lang="en-US" sz="2400" spc="-1" strike="noStrike">
                  <a:solidFill>
                    <a:srgbClr val="1d528d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85840" y="3852720"/>
                <a:ext cx="184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Century Gothic"/>
                  </a:rPr>
                  <a:t>distribution</a:t>
                </a:r>
                <a:endParaRPr b="0" lang="en-US" sz="2400" spc="-1" strike="noStrike">
                  <a:solidFill>
                    <a:srgbClr val="1d528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" name=""/>
          <p:cNvSpPr/>
          <p:nvPr/>
        </p:nvSpPr>
        <p:spPr>
          <a:xfrm>
            <a:off x="437400" y="6021360"/>
            <a:ext cx="55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d528d"/>
                </a:solidFill>
                <a:latin typeface="Century Gothic"/>
              </a:rPr>
              <a:t>{W|A}CET = {Worst|Average}-Case Execution Time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D43-E8F0-4F2C-B150-CA74B964AB8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A2E77-8B95-4E07-8126-C4D90B9DCF19}" type="datetime5">
              <a:rPr lang="en-US"/>
              <a:t>Jul 31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Uncertainty in Cache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828800"/>
          <a:ext cx="8077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077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271-6C18-4AA9-8AF7-81AD56C120B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7F043-53D9-4AB2-8746-3D531635A8E9}" type="datetime5">
              <a:rPr lang="en-US"/>
              <a:t>Jul 31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Metrics of Predictability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9480" y="1600200"/>
          <a:ext cx="5486400" cy="46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5486400" cy="46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486400" y="2209680"/>
          <a:ext cx="3261960" cy="1579320"/>
        </p:xfrm>
        <a:graphic>
          <a:graphicData uri="http://schemas.openxmlformats.org/drawingml/2006/table">
            <a:tbl>
              <a:tblPr/>
              <a:tblGrid>
                <a:gridCol w="326196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Two  Variants: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M = Misses Only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HM = Hits &amp; Misses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791320" y="1173240"/>
            <a:ext cx="3174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1d528d"/>
                </a:solidFill>
                <a:latin typeface="Century Gothic"/>
              </a:rPr>
              <a:t>evict &amp; fill</a:t>
            </a:r>
            <a:endParaRPr b="0" lang="en-US" sz="4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27520" y="508464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entury Gothic"/>
              </a:rPr>
              <a:t>[d,c,x]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24000" y="5013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8D6B-C624-43A2-9F6A-79CD0326EC0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7425C-03FD-48DE-8A5A-993975391713}" type="datetime5">
              <a:rPr lang="en-US"/>
              <a:t>Jul 31, 20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Meaning of evict/fill -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2057400"/>
            <a:ext cx="86407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Evict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When do we gain any </a:t>
            </a:r>
            <a:r>
              <a:rPr b="0" i="1" lang="de-DE" sz="2800" spc="-1" strike="noStrike">
                <a:solidFill>
                  <a:srgbClr val="1d528d"/>
                </a:solidFill>
                <a:latin typeface="Century Gothic"/>
              </a:rPr>
              <a:t>may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-information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Safe information about Cache Misse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Fill: </a:t>
            </a:r>
            <a:r>
              <a:rPr b="0" i="1" lang="de-DE" sz="3200" spc="-1" strike="noStrike">
                <a:solidFill>
                  <a:srgbClr val="1d528d"/>
                </a:solidFill>
                <a:latin typeface="Century Gothic"/>
              </a:rPr>
              <a:t>must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-information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When do we gain </a:t>
            </a:r>
            <a:r>
              <a:rPr b="0" i="1" lang="de-DE" sz="2800" spc="-1" strike="noStrike">
                <a:solidFill>
                  <a:srgbClr val="1d528d"/>
                </a:solidFill>
                <a:latin typeface="Century Gothic"/>
              </a:rPr>
              <a:t>precise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must-information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Safe information about Cache Hit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C6E8-7203-4FF1-B6C5-0943F0DAC7A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811FE-61BB-404F-BC95-38FE9DBADC4F}" type="datetime5">
              <a:rPr lang="en-US"/>
              <a:t>Jul 31, 20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Meaning of evict/fill -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49560"/>
            <a:ext cx="80010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Metrics are independent of analyse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evict/fill bound the precision of any static analysis!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Allows to analyze an analysi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Is it as precise as it gets w.r.t. the metrics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9C4B-DD11-468D-808D-CBF099CA7B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20C16-5CD9-4FC3-A788-814A18E5EBFB}" type="datetime5">
              <a:rPr lang="en-US"/>
              <a:t>Jul 31, 20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Replacement Polic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LRU – Least Recently Used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Intel Pentium, MIPS 24K/34K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FIFO – First-In First-Out (Round-robin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Intel XScale, ARM9, ARM11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PLRU – Pseudo-LRU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Intel Pentium II+III+IV, PowerPC 75x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MRU – Most Recently Used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815-B3FD-4BF5-A7B9-CF050EFC451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97B99-19A2-4CA9-94E8-F89F386E924A}" type="datetime5">
              <a:rPr lang="en-US"/>
              <a:t>Jul 31, 20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74680"/>
            <a:ext cx="7216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LRU - Least Recently U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628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LRU is the simplest case: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After i </a:t>
            </a:r>
            <a:r>
              <a:rPr b="0" lang="de-DE" sz="2400" spc="-1" strike="noStrike">
                <a:solidFill>
                  <a:srgbClr val="1d528d"/>
                </a:solidFill>
                <a:latin typeface="Century Gothic"/>
                <a:ea typeface="Arial"/>
              </a:rPr>
              <a:t>≤ k (associativity) we have exact must-information for i elements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  <a:ea typeface="Arial"/>
              </a:rPr>
              <a:t>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50920" y="3213000"/>
          <a:ext cx="1223640" cy="182268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2050920" y="3213000"/>
          <a:ext cx="1296720" cy="1822680"/>
        </p:xfrm>
        <a:graphic>
          <a:graphicData uri="http://schemas.openxmlformats.org/drawingml/2006/table">
            <a:tbl>
              <a:tblPr/>
              <a:tblGrid>
                <a:gridCol w="129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a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722920" y="3213000"/>
          <a:ext cx="1223640" cy="182268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c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b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a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7558200" y="3213000"/>
          <a:ext cx="1296360" cy="1822680"/>
        </p:xfrm>
        <a:graphic>
          <a:graphicData uri="http://schemas.openxmlformats.org/drawingml/2006/table">
            <a:tbl>
              <a:tblPr/>
              <a:tblGrid>
                <a:gridCol w="129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d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c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b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a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3922560" y="3213000"/>
          <a:ext cx="1223640" cy="182268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b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a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2843280" y="5373720"/>
            <a:ext cx="5256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de-DE" sz="36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3600" spc="-1" strike="noStrike">
                <a:solidFill>
                  <a:srgbClr val="1d528d"/>
                </a:solidFill>
                <a:latin typeface="Century Gothic"/>
              </a:rPr>
              <a:t>evict(k) = fill(k) = k</a:t>
            </a:r>
            <a:endParaRPr b="0" lang="en-US" sz="3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546200" y="3573360"/>
            <a:ext cx="433080" cy="576360"/>
            <a:chOff x="1546200" y="3573360"/>
            <a:chExt cx="433080" cy="576360"/>
          </a:xfrm>
        </p:grpSpPr>
        <p:sp>
          <p:nvSpPr>
            <p:cNvPr id="261" name=""/>
            <p:cNvSpPr/>
            <p:nvPr/>
          </p:nvSpPr>
          <p:spPr>
            <a:xfrm>
              <a:off x="154620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57720" y="357336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a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419640" y="3573360"/>
            <a:ext cx="433080" cy="576360"/>
            <a:chOff x="3419640" y="3573360"/>
            <a:chExt cx="433080" cy="576360"/>
          </a:xfrm>
        </p:grpSpPr>
        <p:sp>
          <p:nvSpPr>
            <p:cNvPr id="264" name=""/>
            <p:cNvSpPr/>
            <p:nvPr/>
          </p:nvSpPr>
          <p:spPr>
            <a:xfrm>
              <a:off x="341964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6840" y="35733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b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19640" y="3573360"/>
            <a:ext cx="433080" cy="576360"/>
            <a:chOff x="5219640" y="3573360"/>
            <a:chExt cx="433080" cy="576360"/>
          </a:xfrm>
        </p:grpSpPr>
        <p:sp>
          <p:nvSpPr>
            <p:cNvPr id="267" name=""/>
            <p:cNvSpPr/>
            <p:nvPr/>
          </p:nvSpPr>
          <p:spPr>
            <a:xfrm>
              <a:off x="521964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43400" y="35733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020000" y="3573360"/>
            <a:ext cx="433080" cy="576360"/>
            <a:chOff x="7020000" y="3573360"/>
            <a:chExt cx="433080" cy="576360"/>
          </a:xfrm>
        </p:grpSpPr>
        <p:sp>
          <p:nvSpPr>
            <p:cNvPr id="270" name=""/>
            <p:cNvSpPr/>
            <p:nvPr/>
          </p:nvSpPr>
          <p:spPr>
            <a:xfrm>
              <a:off x="702000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27200" y="35733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71FA-4CDE-4FC9-99BE-B574DC4EB28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C69CD-C7C7-4EC4-A38E-0A748CF8771D}" type="datetime5">
              <a:rPr lang="en-US"/>
              <a:t>Jul 31, 20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520" y="274680"/>
            <a:ext cx="7216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FIFO – First-In First-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Like LRU in the miss-cas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But hits do </a:t>
            </a:r>
            <a:r>
              <a:rPr b="1" lang="de-DE" sz="3200" spc="-1" strike="noStrike">
                <a:solidFill>
                  <a:srgbClr val="1d528d"/>
                </a:solidFill>
                <a:latin typeface="Century Gothic"/>
              </a:rPr>
              <a:t>not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 change the stat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50920" y="3213000"/>
          <a:ext cx="1223640" cy="182268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2050920" y="3213000"/>
          <a:ext cx="1296720" cy="1822680"/>
        </p:xfrm>
        <a:graphic>
          <a:graphicData uri="http://schemas.openxmlformats.org/drawingml/2006/table">
            <a:tbl>
              <a:tblPr/>
              <a:tblGrid>
                <a:gridCol w="129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5722920" y="3213000"/>
          <a:ext cx="1223640" cy="182268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7558200" y="3213000"/>
          <a:ext cx="1296360" cy="1822680"/>
        </p:xfrm>
        <a:graphic>
          <a:graphicData uri="http://schemas.openxmlformats.org/drawingml/2006/table">
            <a:tbl>
              <a:tblPr/>
              <a:tblGrid>
                <a:gridCol w="129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922560" y="3213000"/>
          <a:ext cx="1224000" cy="182268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1546200" y="3573360"/>
            <a:ext cx="433080" cy="576360"/>
            <a:chOff x="1546200" y="3573360"/>
            <a:chExt cx="433080" cy="576360"/>
          </a:xfrm>
        </p:grpSpPr>
        <p:sp>
          <p:nvSpPr>
            <p:cNvPr id="280" name=""/>
            <p:cNvSpPr/>
            <p:nvPr/>
          </p:nvSpPr>
          <p:spPr>
            <a:xfrm>
              <a:off x="154620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57720" y="357336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a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419640" y="3573360"/>
            <a:ext cx="433080" cy="576360"/>
            <a:chOff x="3419640" y="3573360"/>
            <a:chExt cx="433080" cy="576360"/>
          </a:xfrm>
        </p:grpSpPr>
        <p:sp>
          <p:nvSpPr>
            <p:cNvPr id="283" name=""/>
            <p:cNvSpPr/>
            <p:nvPr/>
          </p:nvSpPr>
          <p:spPr>
            <a:xfrm>
              <a:off x="341964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26840" y="35733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b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219640" y="3573360"/>
            <a:ext cx="433080" cy="576360"/>
            <a:chOff x="5219640" y="3573360"/>
            <a:chExt cx="433080" cy="576360"/>
          </a:xfrm>
        </p:grpSpPr>
        <p:sp>
          <p:nvSpPr>
            <p:cNvPr id="286" name=""/>
            <p:cNvSpPr/>
            <p:nvPr/>
          </p:nvSpPr>
          <p:spPr>
            <a:xfrm>
              <a:off x="521964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43400" y="35733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020000" y="3573360"/>
            <a:ext cx="433080" cy="576360"/>
            <a:chOff x="7020000" y="3573360"/>
            <a:chExt cx="433080" cy="576360"/>
          </a:xfrm>
        </p:grpSpPr>
        <p:sp>
          <p:nvSpPr>
            <p:cNvPr id="289" name=""/>
            <p:cNvSpPr/>
            <p:nvPr/>
          </p:nvSpPr>
          <p:spPr>
            <a:xfrm>
              <a:off x="702000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27200" y="35733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351-6331-4222-8924-57760E80FE5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97485-EEDD-47ED-B0F5-73C00BAB6176}" type="datetime5">
              <a:rPr lang="en-US"/>
              <a:t>Jul 31, 20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MRU - Most Recently U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MRU-bit records whether line was recently used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Problem: never stabiliz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52480" y="2895480"/>
            <a:ext cx="6172200" cy="2411280"/>
            <a:chOff x="1752480" y="2895480"/>
            <a:chExt cx="6172200" cy="2411280"/>
          </a:xfrm>
        </p:grpSpPr>
        <p:pic>
          <p:nvPicPr>
            <p:cNvPr id="294" name="" descr=""/>
            <p:cNvPicPr/>
            <p:nvPr/>
          </p:nvPicPr>
          <p:blipFill>
            <a:blip r:embed="rId1"/>
            <a:stretch/>
          </p:blipFill>
          <p:spPr>
            <a:xfrm>
              <a:off x="2666880" y="2895480"/>
              <a:ext cx="3710160" cy="2411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95" name=""/>
            <p:cNvGraphicFramePr/>
            <p:nvPr/>
          </p:nvGraphicFramePr>
          <p:xfrm>
            <a:off x="1752480" y="3124080"/>
            <a:ext cx="817560" cy="946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3124080"/>
                      <a:ext cx="817560" cy="94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"/>
            <p:cNvGraphicFramePr/>
            <p:nvPr/>
          </p:nvGraphicFramePr>
          <p:xfrm>
            <a:off x="1752480" y="4114440"/>
            <a:ext cx="817560" cy="94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52480" y="4114440"/>
                      <a:ext cx="817560" cy="94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"/>
            <p:cNvGraphicFramePr/>
            <p:nvPr/>
          </p:nvGraphicFramePr>
          <p:xfrm>
            <a:off x="6400800" y="3809880"/>
            <a:ext cx="1523880" cy="817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00800" y="3809880"/>
                      <a:ext cx="1523880" cy="81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01" name="" descr=""/>
          <p:cNvPicPr/>
          <p:nvPr/>
        </p:nvPicPr>
        <p:blipFill>
          <a:blip r:embed="rId8"/>
          <a:stretch/>
        </p:blipFill>
        <p:spPr>
          <a:xfrm>
            <a:off x="2666880" y="2897280"/>
            <a:ext cx="3710160" cy="24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943600" y="5257800"/>
          <a:ext cx="2692440" cy="119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5257800"/>
                    <a:ext cx="269244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7823520" y="3860640"/>
            <a:ext cx="5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,e</a:t>
            </a:r>
            <a:endParaRPr b="0" lang="en-US" sz="3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C80-E505-4AC1-9540-EAE2CD4D45E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5AEAD-11C8-4B28-AB61-EC0574D0BA7F}" type="datetime5">
              <a:rPr lang="en-US"/>
              <a:t>Jul 31, 20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7061040" cy="19558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84000" y="1844640"/>
            <a:ext cx="80010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Tree maintains order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Problem: accesses „rejuvenate“ neighborhood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Pseudo-LR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95480" y="3048120"/>
            <a:ext cx="58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62720" y="3048120"/>
            <a:ext cx="58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B60-7217-4C22-BC2E-35B0EDB242D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E17A8-1E51-45FF-87CD-476114873DEB}" type="datetime5">
              <a:rPr lang="en-US"/>
              <a:t>Jul 31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Predictability in Timing Contex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010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Hard real-time system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Strict timing constraint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Need to derive upper bounds on WCE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85840" y="3645000"/>
            <a:ext cx="8176320" cy="2554200"/>
            <a:chOff x="285840" y="3645000"/>
            <a:chExt cx="8176320" cy="2554200"/>
          </a:xfrm>
        </p:grpSpPr>
        <p:sp>
          <p:nvSpPr>
            <p:cNvPr id="119" name=""/>
            <p:cNvSpPr/>
            <p:nvPr/>
          </p:nvSpPr>
          <p:spPr>
            <a:xfrm flipV="1">
              <a:off x="2159280" y="3852360"/>
              <a:ext cx="0" cy="129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85840" y="3645000"/>
              <a:ext cx="8176320" cy="2554200"/>
              <a:chOff x="285840" y="3645000"/>
              <a:chExt cx="8176320" cy="2554200"/>
            </a:xfrm>
          </p:grpSpPr>
          <p:graphicFrame>
            <p:nvGraphicFramePr>
              <p:cNvPr id="121" name=""/>
              <p:cNvGraphicFramePr/>
              <p:nvPr/>
            </p:nvGraphicFramePr>
            <p:xfrm>
              <a:off x="2000520" y="3645000"/>
              <a:ext cx="5715000" cy="2554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00520" y="3645000"/>
                        <a:ext cx="571500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3" name=""/>
              <p:cNvSpPr/>
              <p:nvPr/>
            </p:nvSpPr>
            <p:spPr>
              <a:xfrm>
                <a:off x="7635240" y="5076720"/>
                <a:ext cx="82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entury Gothic"/>
                  </a:rPr>
                  <a:t>time</a:t>
                </a:r>
                <a:endParaRPr b="0" lang="en-US" sz="2400" spc="-1" strike="noStrike">
                  <a:solidFill>
                    <a:srgbClr val="1d528d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5840" y="3852720"/>
                <a:ext cx="184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Century Gothic"/>
                  </a:rPr>
                  <a:t>distribution</a:t>
                </a:r>
                <a:endParaRPr b="0" lang="en-US" sz="2400" spc="-1" strike="noStrike">
                  <a:solidFill>
                    <a:srgbClr val="1d528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>
            <a:off x="437400" y="6021360"/>
            <a:ext cx="55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d528d"/>
                </a:solidFill>
                <a:latin typeface="Century Gothic"/>
              </a:rPr>
              <a:t>{W|A}CET = {Worst|Average}-Case Execution Time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3716280"/>
            <a:ext cx="2448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entury Gothic"/>
              </a:rPr>
              <a:t>Predictability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737-9C05-4E29-B5F7-79607BDC958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BC47D-C002-4E28-BF62-D5023CA43BED}" type="datetime5">
              <a:rPr lang="en-US"/>
              <a:t>Jul 31, 20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6629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Results: tight bou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209080" cy="189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"/>
          <p:cNvGraphicFramePr/>
          <p:nvPr/>
        </p:nvGraphicFramePr>
        <p:xfrm>
          <a:off x="9685440" y="3573360"/>
          <a:ext cx="21333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85440" y="3573360"/>
                    <a:ext cx="2133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9342360" y="4137120"/>
            <a:ext cx="2930760" cy="930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8880" y="4869000"/>
            <a:ext cx="82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1d528d"/>
                </a:solidFill>
                <a:latin typeface="Century Gothic"/>
              </a:rPr>
              <a:t>Parametric examples prove tightness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CA66-E274-496F-9DFF-ABF5CAE85FC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695DE-225B-4974-925A-944C1158C07A}" type="datetime5">
              <a:rPr lang="en-US"/>
              <a:t>Jul 31, 20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520" y="274680"/>
            <a:ext cx="7162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Results: instances for k=4,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1897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50920" y="3809880"/>
            <a:ext cx="8785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Question: 8-way PLRU cache,</a:t>
            </a:r>
            <a:r>
              <a:rPr b="0" i="1" lang="de-DE" sz="24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4 instructions per line</a:t>
            </a:r>
            <a:r>
              <a:rPr b="0" i="1" lang="de-DE" sz="24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Assume equal distribution of instructions over 256 sets: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How long a straight-line code sequence is needed to obtain precise must-information?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B3E-5A8A-4EF9-87C4-0BDAC3D2D72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73126-D8A4-4F77-B113-B4D57C63CC7C}" type="datetime5">
              <a:rPr lang="en-US"/>
              <a:t>Jul 31, 20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entury Gothic"/>
              </a:rPr>
              <a:t>Can we do something cheap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Analyses that reach perfect precision can be very expensive!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Minimum Live-Span (</a:t>
            </a:r>
            <a:r>
              <a:rPr b="1" lang="de-DE" sz="3200" spc="-1" strike="noStrike">
                <a:solidFill>
                  <a:srgbClr val="1d528d"/>
                </a:solidFill>
                <a:latin typeface="Century Gothic"/>
              </a:rPr>
              <a:t>mls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): How long does an element at least survive in the cache?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Enables cheap analysis that just keeps track of the last </a:t>
            </a:r>
            <a:r>
              <a:rPr b="1" lang="de-DE" sz="3200" spc="-1" strike="noStrike">
                <a:solidFill>
                  <a:srgbClr val="1d528d"/>
                </a:solidFill>
                <a:latin typeface="Century Gothic"/>
              </a:rPr>
              <a:t>mls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 accesses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10E-37CD-41D8-BF06-E8D0C7295DA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89B2F-9DD5-4D2C-82EA-C842D0F98F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274680"/>
            <a:ext cx="69278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entury Gothic"/>
              </a:rPr>
              <a:t>Minimum Live-Span -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3961080" cy="24894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5076720" y="2852640"/>
            <a:ext cx="3219480" cy="33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3CB-7456-4E75-AE76-F039196B6780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ED103-C516-4989-BA5D-3EFA4FEAC66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4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entury Gothic"/>
              </a:rPr>
              <a:t>Evolution of may/must-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8084880" cy="3643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84360" y="162864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8-way LRU: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956720" y="328464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389-9E9A-453B-9898-6162C583AD7F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28B72-F54C-4FE5-8B64-552B1F95387C}" type="datetime5">
              <a:rPr lang="en-US"/>
              <a:t>Jul 31, 20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4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entury Gothic"/>
              </a:rPr>
              <a:t>Evolution of may/must-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162864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8-way FIFO: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826920" y="2282760"/>
            <a:ext cx="7634520" cy="41194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737120" y="422100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6EC-A83C-4883-88C4-0F87BA6F52B4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76FAE-6B0F-4264-9280-202CA8BA7F02}" type="datetime5">
              <a:rPr lang="en-US"/>
              <a:t>Jul 31, 20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4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entury Gothic"/>
              </a:rPr>
              <a:t>Evolution of may/must-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" y="1628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8-way MRU: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848360" cy="41446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7660800" y="31384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2k-2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736400" y="429264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k-1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8B0-0F87-4565-8E98-8E494B77604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97CD1-8456-43B4-90F3-0D821301E477}" type="datetime5">
              <a:rPr lang="en-US"/>
              <a:t>Jul 31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4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entury Gothic"/>
              </a:rPr>
              <a:t>Evolution of may/must-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4360" y="1628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8-way PLRU: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36000" cy="41018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7808400" y="400536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24A-FFF8-44FE-9024-5479B2B2DD3E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FF0DE-AC97-4852-B642-1475A4AEE01D}" type="datetime5">
              <a:rPr lang="en-US"/>
              <a:t>Jul 31, 20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76520" y="274680"/>
            <a:ext cx="6999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Concl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072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First analytical results on the predictability of cache replacement polici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LRU is perfect in terms of our predictability metric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FIFO and MRU are particularly bad, especially considering the evolution of must-information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F75-EE9A-4091-83A4-0EBACA2CA6B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282AD-1EA9-453A-A1C6-5CC2907348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Future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1d528d"/>
                </a:solidFill>
                <a:latin typeface="Century Gothic"/>
              </a:rPr>
              <a:t>Find </a:t>
            </a:r>
            <a:r>
              <a:rPr b="1" lang="de-DE" sz="3600" spc="-1" strike="noStrike">
                <a:solidFill>
                  <a:srgbClr val="1d528d"/>
                </a:solidFill>
                <a:latin typeface="Century Gothic"/>
              </a:rPr>
              <a:t>new</a:t>
            </a:r>
            <a:r>
              <a:rPr b="0" lang="de-DE" sz="3600" spc="-1" strike="noStrike">
                <a:solidFill>
                  <a:srgbClr val="1d528d"/>
                </a:solidFill>
                <a:latin typeface="Century Gothic"/>
              </a:rPr>
              <a:t> cache replacement policies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Predictabl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Cheap to implemen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High (average-case) performanc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4D8-7520-4F80-836B-D65DA53558B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6B1FC-B21E-4393-A553-AB98EBF008D2}" type="datetime5">
              <a:rPr lang="en-US"/>
              <a:t>Jul 31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Outloo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10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Cach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Static Cache Analysi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Predictability Metrics for 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Cache Replacement Polici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Further Predictability Result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Conclusion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Future Work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CDE-07FB-43D8-AF27-6BB912AD46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768F5-3ACA-4F5C-9F80-BE4FCDBB1A7C}" type="datetime5">
              <a:rPr lang="en-US"/>
              <a:t>Jul 31, 20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Future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Analyze cache analyse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Do they ever recover „perfect“ </a:t>
            </a:r>
            <a:r>
              <a:rPr b="0" i="1" lang="de-DE" sz="2800" spc="-1" strike="noStrike">
                <a:solidFill>
                  <a:srgbClr val="1d528d"/>
                </a:solidFill>
                <a:latin typeface="Century Gothic"/>
              </a:rPr>
              <a:t>may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/</a:t>
            </a:r>
            <a:r>
              <a:rPr b="0" i="1" lang="de-DE" sz="2800" spc="-1" strike="noStrike">
                <a:solidFill>
                  <a:srgbClr val="1d528d"/>
                </a:solidFill>
                <a:latin typeface="Century Gothic"/>
              </a:rPr>
              <a:t>must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-information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If so, within evict/fill accesses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Develop precise and efficient analyse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Idea: Remember last </a:t>
            </a:r>
            <a:r>
              <a:rPr b="0" i="1" lang="de-DE" sz="2800" spc="-1" strike="noStrike">
                <a:solidFill>
                  <a:srgbClr val="1d528d"/>
                </a:solidFill>
                <a:latin typeface="Century Gothic"/>
              </a:rPr>
              <a:t>evict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accesse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Problem: Accesses are not pairwise different in practice (cache hits! ;-))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90C7-0D1B-487B-89F4-1427E84FFA6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547F4-63FC-4319-BBFC-9ABDB371BA4D}" type="datetime5">
              <a:rPr lang="en-US"/>
              <a:t>Jul 31, 20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Future Work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69644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Simplify access sequences 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&lt;x y z z&gt; </a:t>
            </a:r>
            <a:r>
              <a:rPr b="0" lang="de-DE" sz="2800" spc="-1" strike="noStrike">
                <a:solidFill>
                  <a:srgbClr val="1d528d"/>
                </a:solidFill>
                <a:latin typeface="Wingdings"/>
                <a:ea typeface="Wingdings"/>
              </a:rPr>
              <a:t>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&lt;x y z&gt; 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!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&lt;x z y z&gt; </a:t>
            </a:r>
            <a:r>
              <a:rPr b="0" lang="de-DE" sz="2800" spc="-1" strike="noStrike">
                <a:solidFill>
                  <a:srgbClr val="1d528d"/>
                </a:solidFill>
                <a:latin typeface="Wingdings"/>
                <a:ea typeface="Wingdings"/>
              </a:rPr>
              <a:t>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&lt;x y z&gt; ?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Works for LRU, not for other policies in general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Yields currently leading LRU analysis after additional abstraction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5E82-BEDA-4229-8238-EF72A19DA11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588DD-43B8-4534-82AB-456D185F8146}" type="datetime5">
              <a:rPr lang="en-US"/>
              <a:t>Jul 31, 20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Future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2149560"/>
            <a:ext cx="80010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Beyond evict/fill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Evict/fill assume complete uncertainty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What if there is only partial uncertainty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Other useful metrics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0EE-F155-48BE-A691-C24F1F2338C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A4F17-9151-47BC-A98B-2FF603F5822D}" type="datetime5">
              <a:rPr lang="en-US"/>
              <a:t>Jul 31, 20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The E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447920"/>
            <a:ext cx="6172200" cy="45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13E-F365-4923-8702-CB6C3BDCA8B9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5E0A4-F8CB-490B-AE5E-183E4FEE7713}" type="datetime5">
              <a:rPr lang="en-US"/>
              <a:t>Jul 31, 20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600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aches: How they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Assume an access to </a:t>
            </a:r>
            <a:r>
              <a:rPr b="1" i="1" lang="en-US" sz="3200" spc="-1" strike="noStrike">
                <a:solidFill>
                  <a:srgbClr val="1d528d"/>
                </a:solidFill>
                <a:latin typeface="Century Gothic"/>
              </a:rPr>
              <a:t>a, </a:t>
            </a: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case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Block </a:t>
            </a:r>
            <a:r>
              <a:rPr b="1" i="1" lang="en-US" sz="2800" spc="-1" strike="noStrike">
                <a:solidFill>
                  <a:srgbClr val="1d528d"/>
                </a:solidFill>
                <a:latin typeface="Century Gothic"/>
              </a:rPr>
              <a:t>m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 containing </a:t>
            </a:r>
            <a:r>
              <a:rPr b="1" i="1" lang="en-US" sz="2800" spc="-1" strike="noStrike">
                <a:solidFill>
                  <a:srgbClr val="1d528d"/>
                </a:solidFill>
                <a:latin typeface="Century Gothic"/>
              </a:rPr>
              <a:t>a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 in the cache (</a:t>
            </a:r>
            <a:r>
              <a:rPr b="0" i="1" lang="en-US" sz="2800" spc="-1" strike="noStrike">
                <a:solidFill>
                  <a:srgbClr val="1d528d"/>
                </a:solidFill>
                <a:latin typeface="Century Gothic"/>
              </a:rPr>
              <a:t>hit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): </a:t>
            </a:r>
            <a:br>
              <a:rPr sz="2800"/>
            </a:b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request for </a:t>
            </a:r>
            <a:r>
              <a:rPr b="1" i="1" lang="en-US" sz="2800" spc="-1" strike="noStrike">
                <a:solidFill>
                  <a:srgbClr val="1d528d"/>
                </a:solidFill>
                <a:latin typeface="Century Gothic"/>
              </a:rPr>
              <a:t>a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 is served in the next cycl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Block</a:t>
            </a:r>
            <a:r>
              <a:rPr b="0" i="1" lang="en-US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1d528d"/>
                </a:solidFill>
                <a:latin typeface="Century Gothic"/>
              </a:rPr>
              <a:t>m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 not in the cache (</a:t>
            </a:r>
            <a:r>
              <a:rPr b="0" i="1" lang="en-US" sz="2800" spc="-1" strike="noStrike">
                <a:solidFill>
                  <a:srgbClr val="1d528d"/>
                </a:solidFill>
                <a:latin typeface="Century Gothic"/>
              </a:rPr>
              <a:t>miss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): </a:t>
            </a:r>
            <a:br>
              <a:rPr sz="2800"/>
            </a:br>
            <a:r>
              <a:rPr b="1" i="1" lang="en-US" sz="2800" spc="-1" strike="noStrike">
                <a:solidFill>
                  <a:srgbClr val="1d528d"/>
                </a:solidFill>
                <a:latin typeface="Century Gothic"/>
              </a:rPr>
              <a:t>m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 is transferred from main memory to the cache, </a:t>
            </a:r>
            <a:br>
              <a:rPr sz="2800"/>
            </a:br>
            <a:r>
              <a:rPr b="1" i="1" lang="en-US" sz="2800" spc="-1" strike="noStrike">
                <a:solidFill>
                  <a:srgbClr val="1d528d"/>
                </a:solidFill>
                <a:latin typeface="Century Gothic"/>
              </a:rPr>
              <a:t>m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 may replace some block in the cache,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1d528d"/>
                </a:solidFill>
                <a:latin typeface="Century Gothic"/>
              </a:rPr>
              <a:t>Replacement policies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: LRU, PLRU, FIFO, ...</a:t>
            </a:r>
            <a:br>
              <a:rPr sz="2800"/>
            </a:b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determine how to update the state of the cache upon an access, especially which line to replac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720-7E38-40F1-9AEC-3CB66D08CD83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4E174-6562-4801-8ED0-E835F42A7C0B}" type="datetime5">
              <a:rPr lang="en-US"/>
              <a:t>Jul 31, 20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Results: tight bou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797960" cy="38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5A7-7338-4ED9-8D00-85F12A550583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65C3C-AA73-465A-ABE7-4BB9D1C1E576}" type="datetime5">
              <a:rPr lang="en-US"/>
              <a:t>Jul 31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8000" y="260280"/>
            <a:ext cx="705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aches: Fast Memory on Ch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447920"/>
            <a:ext cx="871380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Caches are used, becaus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Fast main memory is too expensiv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The speed gap between CPU and memory is too large and increasin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Caches work well in the average case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Programs access data locally (spatial locality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Programs reuse items (temporal locality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484360" y="4724280"/>
          <a:ext cx="4248360" cy="1675080"/>
        </p:xfrm>
        <a:graphic>
          <a:graphicData uri="http://schemas.openxmlformats.org/drawingml/2006/table">
            <a:tbl>
              <a:tblPr/>
              <a:tblGrid>
                <a:gridCol w="1727280"/>
                <a:gridCol w="1081080"/>
                <a:gridCol w="1440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Spee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Siz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Registe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0.25 n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500 byte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Cach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64 KB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Main memory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100 n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512 MB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Hard disk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5 m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100 GB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DB3C-4FB6-4696-8284-F7D9E9E3C4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C8279-F593-4E3B-AD3A-C51D231D7B6E}" type="datetime5">
              <a:rPr lang="en-US"/>
              <a:t>Jul 31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640" y="274680"/>
            <a:ext cx="6913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-Way Set-Associative C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2879640" cy="579240"/>
        </p:xfrm>
        <a:graphic>
          <a:graphicData uri="http://schemas.openxmlformats.org/drawingml/2006/table">
            <a:tbl>
              <a:tblPr/>
              <a:tblGrid>
                <a:gridCol w="1272960"/>
                <a:gridCol w="814680"/>
                <a:gridCol w="792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Tag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Block offse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5280" y="14130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d528d"/>
                </a:solidFill>
                <a:latin typeface="Century Gothic"/>
              </a:rPr>
              <a:t>Address: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619280" y="3141720"/>
          <a:ext cx="2089080" cy="1004760"/>
        </p:xfrm>
        <a:graphic>
          <a:graphicData uri="http://schemas.openxmlformats.org/drawingml/2006/table">
            <a:tbl>
              <a:tblPr/>
              <a:tblGrid>
                <a:gridCol w="792000"/>
                <a:gridCol w="129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Tag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Data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395280" y="335772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Cache Sets: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651640" y="3141720"/>
          <a:ext cx="2089080" cy="1004760"/>
        </p:xfrm>
        <a:graphic>
          <a:graphicData uri="http://schemas.openxmlformats.org/drawingml/2006/table">
            <a:tbl>
              <a:tblPr/>
              <a:tblGrid>
                <a:gridCol w="792000"/>
                <a:gridCol w="129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Tag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Data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3708360" y="328464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…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12000" y="2997360"/>
            <a:ext cx="112716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1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A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2349360"/>
            <a:ext cx="0" cy="358920"/>
          </a:xfrm>
          <a:prstGeom prst="line">
            <a:avLst/>
          </a:prstGeom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2708280"/>
            <a:ext cx="4248000" cy="0"/>
          </a:xfrm>
          <a:prstGeom prst="line">
            <a:avLst/>
          </a:prstGeom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43640" y="2708280"/>
            <a:ext cx="0" cy="433440"/>
          </a:xfrm>
          <a:prstGeom prst="line">
            <a:avLst/>
          </a:prstGeom>
          <a:ln w="1908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2349360"/>
            <a:ext cx="0" cy="2664000"/>
          </a:xfrm>
          <a:prstGeom prst="line">
            <a:avLst/>
          </a:prstGeom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5013360"/>
            <a:ext cx="4321080" cy="0"/>
          </a:xfrm>
          <a:prstGeom prst="line">
            <a:avLst/>
          </a:prstGeom>
          <a:ln w="1908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4149720"/>
            <a:ext cx="0" cy="574560"/>
          </a:xfrm>
          <a:prstGeom prst="line">
            <a:avLst/>
          </a:prstGeom>
          <a:ln w="1908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4724280"/>
            <a:ext cx="576360" cy="576360"/>
          </a:xfrm>
          <a:prstGeom prst="ellipse">
            <a:avLst/>
          </a:prstGeom>
          <a:noFill/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Century Gothic"/>
              </a:rPr>
              <a:t>=?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2349360"/>
            <a:ext cx="0" cy="142920"/>
          </a:xfrm>
          <a:prstGeom prst="line">
            <a:avLst/>
          </a:prstGeom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2492280"/>
            <a:ext cx="5472000" cy="0"/>
          </a:xfrm>
          <a:prstGeom prst="line">
            <a:avLst/>
          </a:prstGeom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59640" y="2492280"/>
            <a:ext cx="0" cy="2305080"/>
          </a:xfrm>
          <a:prstGeom prst="line">
            <a:avLst/>
          </a:prstGeom>
          <a:ln w="1908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40720" y="4797360"/>
            <a:ext cx="976320" cy="459720"/>
          </a:xfrm>
          <a:prstGeom prst="rect">
            <a:avLst/>
          </a:prstGeom>
          <a:noFill/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1d528d"/>
                </a:solidFill>
                <a:latin typeface="Century Gothic"/>
              </a:rPr>
              <a:t>Mux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80360" y="4149720"/>
            <a:ext cx="0" cy="863640"/>
          </a:xfrm>
          <a:prstGeom prst="line">
            <a:avLst/>
          </a:prstGeom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5013360"/>
            <a:ext cx="360360" cy="0"/>
          </a:xfrm>
          <a:prstGeom prst="line">
            <a:avLst/>
          </a:prstGeom>
          <a:ln w="1908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44000" y="5300640"/>
            <a:ext cx="0" cy="649440"/>
          </a:xfrm>
          <a:prstGeom prst="line">
            <a:avLst/>
          </a:prstGeom>
          <a:ln w="1908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93040" y="479736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d528d"/>
                </a:solidFill>
                <a:latin typeface="Century Gothic"/>
              </a:rPr>
              <a:t>Yes: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d528d"/>
                </a:solidFill>
                <a:latin typeface="Century Gothic"/>
              </a:rPr>
              <a:t>Hit!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08720" y="5589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No: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Miss!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5300640"/>
            <a:ext cx="0" cy="360360"/>
          </a:xfrm>
          <a:prstGeom prst="line">
            <a:avLst/>
          </a:prstGeom>
          <a:ln w="1908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5013360"/>
            <a:ext cx="360360" cy="0"/>
          </a:xfrm>
          <a:prstGeom prst="line">
            <a:avLst/>
          </a:prstGeom>
          <a:ln w="1908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56720" y="3357720"/>
            <a:ext cx="0" cy="5760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CFC-452A-43EF-8A6E-F12DE6D784E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6C013-9FC9-4F97-944D-091EC67CBD91}" type="datetime5">
              <a:rPr lang="en-US"/>
              <a:t>Jul 31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Example: 4-way LRU-S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12720" y="2997360"/>
          <a:ext cx="1451160" cy="1822320"/>
        </p:xfrm>
        <a:graphic>
          <a:graphicData uri="http://schemas.openxmlformats.org/drawingml/2006/table">
            <a:tbl>
              <a:tblPr/>
              <a:tblGrid>
                <a:gridCol w="1451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728640" y="1773360"/>
            <a:ext cx="52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LRU = Least Recently Used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348000" y="2997360"/>
          <a:ext cx="1441440" cy="1827000"/>
        </p:xfrm>
        <a:graphic>
          <a:graphicData uri="http://schemas.openxmlformats.org/drawingml/2006/table">
            <a:tbl>
              <a:tblPr/>
              <a:tblGrid>
                <a:gridCol w="144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2197080" y="3213000"/>
            <a:ext cx="1008000" cy="432000"/>
          </a:xfrm>
          <a:prstGeom prst="line">
            <a:avLst/>
          </a:prstGeom>
          <a:ln w="284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48360" y="1557360"/>
            <a:ext cx="1835280" cy="770040"/>
          </a:xfrm>
          <a:prstGeom prst="rect">
            <a:avLst/>
          </a:prstGeom>
          <a:noFill/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Century Gothic"/>
              </a:rPr>
              <a:t>LRU has a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Century Gothic"/>
              </a:rPr>
              <a:t>notion of Age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67640" y="2997360"/>
            <a:ext cx="1320480" cy="1807920"/>
            <a:chOff x="7667640" y="2997360"/>
            <a:chExt cx="1320480" cy="1807920"/>
          </a:xfrm>
        </p:grpSpPr>
        <p:sp>
          <p:nvSpPr>
            <p:cNvPr id="166" name=""/>
            <p:cNvSpPr/>
            <p:nvPr/>
          </p:nvSpPr>
          <p:spPr>
            <a:xfrm>
              <a:off x="7667640" y="299736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1d528d"/>
                  </a:solidFill>
                  <a:latin typeface="Century Gothic"/>
                </a:rPr>
                <a:t>young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67640" y="443700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1d528d"/>
                  </a:solidFill>
                  <a:latin typeface="Century Gothic"/>
                </a:rPr>
                <a:t>old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99280" y="371808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Century Gothic"/>
                </a:rPr>
                <a:t>Age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99280" y="3429000"/>
              <a:ext cx="0" cy="1008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763640" y="4869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Miss on </a:t>
            </a:r>
            <a:r>
              <a:rPr b="1" lang="en-US" sz="2800" spc="-1" strike="noStrike">
                <a:solidFill>
                  <a:srgbClr val="1d528d"/>
                </a:solidFill>
                <a:latin typeface="Century Gothic"/>
              </a:rPr>
              <a:t>s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3716280"/>
            <a:ext cx="1008000" cy="432000"/>
          </a:xfrm>
          <a:prstGeom prst="line">
            <a:avLst/>
          </a:prstGeom>
          <a:ln w="284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4148280"/>
            <a:ext cx="1008000" cy="431640"/>
          </a:xfrm>
          <a:prstGeom prst="line">
            <a:avLst/>
          </a:prstGeom>
          <a:ln w="284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84720" y="2997360"/>
          <a:ext cx="1441440" cy="1827000"/>
        </p:xfrm>
        <a:graphic>
          <a:graphicData uri="http://schemas.openxmlformats.org/drawingml/2006/table">
            <a:tbl>
              <a:tblPr/>
              <a:tblGrid>
                <a:gridCol w="144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933800" y="3213000"/>
            <a:ext cx="1008360" cy="432000"/>
          </a:xfrm>
          <a:prstGeom prst="line">
            <a:avLst/>
          </a:prstGeom>
          <a:ln w="284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4869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Hit on </a:t>
            </a:r>
            <a:r>
              <a:rPr b="1" lang="en-US" sz="2800" spc="-1" strike="noStrike">
                <a:solidFill>
                  <a:srgbClr val="1d528d"/>
                </a:solidFill>
                <a:latin typeface="Century Gothic"/>
              </a:rPr>
              <a:t>y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3716280"/>
            <a:ext cx="1008000" cy="432000"/>
          </a:xfrm>
          <a:prstGeom prst="line">
            <a:avLst/>
          </a:prstGeom>
          <a:ln w="284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932360" y="4579920"/>
            <a:ext cx="1008000" cy="1440"/>
          </a:xfrm>
          <a:prstGeom prst="line">
            <a:avLst/>
          </a:prstGeom>
          <a:ln w="284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932360" y="3213000"/>
            <a:ext cx="1009800" cy="936720"/>
          </a:xfrm>
          <a:prstGeom prst="line">
            <a:avLst/>
          </a:prstGeom>
          <a:ln w="284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65B8-2B41-4C2D-81DE-B0F79FAB995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53D3C-3F9B-4479-BC79-C849F1361857}" type="datetime5">
              <a:rPr lang="en-US"/>
              <a:t>Jul 31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ache Analysis: 4-way L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72104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Goal: classify accesses as hits or misse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Usually two analyses: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May-Analysis: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1d528d"/>
                </a:solidFill>
                <a:latin typeface="Century Gothic"/>
              </a:rPr>
              <a:t>For each program point (and calling context): 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Which lines </a:t>
            </a:r>
            <a:r>
              <a:rPr b="1" lang="de-DE" sz="2000" spc="-1" strike="noStrike">
                <a:solidFill>
                  <a:srgbClr val="1d528d"/>
                </a:solidFill>
                <a:latin typeface="Century Gothic"/>
              </a:rPr>
              <a:t>may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 be in the cache?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0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classify miss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Must-Analysi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1d528d"/>
                </a:solidFill>
                <a:latin typeface="Century Gothic"/>
              </a:rPr>
              <a:t>For each program point (and calling context): 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Which lines </a:t>
            </a:r>
            <a:r>
              <a:rPr b="1" lang="de-DE" sz="2000" spc="-1" strike="noStrike">
                <a:solidFill>
                  <a:srgbClr val="1d528d"/>
                </a:solidFill>
                <a:latin typeface="Century Gothic"/>
              </a:rPr>
              <a:t>must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 be in the cache?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0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classify hi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020000" y="2492280"/>
            <a:ext cx="1439280" cy="2952720"/>
            <a:chOff x="7020000" y="2492280"/>
            <a:chExt cx="1439280" cy="2952720"/>
          </a:xfrm>
        </p:grpSpPr>
        <p:sp>
          <p:nvSpPr>
            <p:cNvPr id="182" name=""/>
            <p:cNvSpPr/>
            <p:nvPr/>
          </p:nvSpPr>
          <p:spPr>
            <a:xfrm>
              <a:off x="7451640" y="2852640"/>
              <a:ext cx="575640" cy="287280"/>
            </a:xfrm>
            <a:prstGeom prst="rect">
              <a:avLst/>
            </a:prstGeom>
            <a:noFill/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38920" y="2492280"/>
              <a:ext cx="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20000" y="3500280"/>
              <a:ext cx="576000" cy="287280"/>
            </a:xfrm>
            <a:prstGeom prst="rect">
              <a:avLst/>
            </a:prstGeom>
            <a:noFill/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83280" y="3500280"/>
              <a:ext cx="576000" cy="287280"/>
            </a:xfrm>
            <a:prstGeom prst="rect">
              <a:avLst/>
            </a:prstGeom>
            <a:noFill/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379640" y="3139920"/>
              <a:ext cx="21564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83280" y="3139920"/>
              <a:ext cx="21564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51640" y="4147920"/>
              <a:ext cx="575640" cy="287640"/>
            </a:xfrm>
            <a:prstGeom prst="rect">
              <a:avLst/>
            </a:prstGeom>
            <a:noFill/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80000" y="3787560"/>
              <a:ext cx="21564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882920" y="3787560"/>
              <a:ext cx="21564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51640" y="4795920"/>
              <a:ext cx="575640" cy="287280"/>
            </a:xfrm>
            <a:prstGeom prst="rect">
              <a:avLst/>
            </a:prstGeom>
            <a:noFill/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38920" y="4437000"/>
              <a:ext cx="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38920" y="5084640"/>
              <a:ext cx="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83280" y="5084640"/>
              <a:ext cx="215640" cy="144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8099280" y="5156280"/>
              <a:ext cx="144000" cy="7128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8243640" y="4653000"/>
              <a:ext cx="0" cy="50328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8099280" y="4579920"/>
              <a:ext cx="144000" cy="7128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882920" y="4579920"/>
              <a:ext cx="215640" cy="21600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F92-C66A-4D2B-A0C4-87D7D96DBA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CF250-3564-4982-BC32-81CEC974A403}" type="datetime5">
              <a:rPr lang="en-US"/>
              <a:t>Jul 31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280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ust-Analysis for 4-way LRU: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Which lines </a:t>
            </a:r>
            <a:r>
              <a:rPr b="1" lang="de-DE" sz="3200" spc="-1" strike="noStrike">
                <a:solidFill>
                  <a:srgbClr val="1d528d"/>
                </a:solidFill>
                <a:latin typeface="Century Gothic"/>
              </a:rPr>
              <a:t>must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 be in the cache?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abstract domain bounds maximal age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57440" y="3429000"/>
          <a:ext cx="1451160" cy="1822320"/>
        </p:xfrm>
        <a:graphic>
          <a:graphicData uri="http://schemas.openxmlformats.org/drawingml/2006/table">
            <a:tbl>
              <a:tblPr/>
              <a:tblGrid>
                <a:gridCol w="1451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x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s,t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y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292720" y="3429000"/>
          <a:ext cx="1441440" cy="1827360"/>
        </p:xfrm>
        <a:graphic>
          <a:graphicData uri="http://schemas.openxmlformats.org/drawingml/2006/table">
            <a:tbl>
              <a:tblPr/>
              <a:tblGrid>
                <a:gridCol w="144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s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x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t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y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4141800" y="3645000"/>
            <a:ext cx="1006560" cy="503280"/>
          </a:xfrm>
          <a:prstGeom prst="line">
            <a:avLst/>
          </a:prstGeom>
          <a:ln w="284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440" y="3645000"/>
            <a:ext cx="18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Access of </a:t>
            </a:r>
            <a:r>
              <a:rPr b="1" lang="en-US" sz="2800" spc="-1" strike="noStrike">
                <a:solidFill>
                  <a:srgbClr val="1d528d"/>
                </a:solidFill>
                <a:latin typeface="Century Gothic"/>
              </a:rPr>
              <a:t>s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4579920"/>
            <a:ext cx="1008000" cy="0"/>
          </a:xfrm>
          <a:prstGeom prst="line">
            <a:avLst/>
          </a:prstGeom>
          <a:ln w="284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140360" y="3644640"/>
            <a:ext cx="1008000" cy="863640"/>
          </a:xfrm>
          <a:prstGeom prst="line">
            <a:avLst/>
          </a:prstGeom>
          <a:ln w="284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140360" y="5013360"/>
            <a:ext cx="1008000" cy="1440"/>
          </a:xfrm>
          <a:prstGeom prst="line">
            <a:avLst/>
          </a:prstGeom>
          <a:ln w="284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948360" y="3429000"/>
            <a:ext cx="1320480" cy="1807920"/>
            <a:chOff x="6948360" y="3429000"/>
            <a:chExt cx="1320480" cy="1807920"/>
          </a:xfrm>
        </p:grpSpPr>
        <p:sp>
          <p:nvSpPr>
            <p:cNvPr id="209" name=""/>
            <p:cNvSpPr/>
            <p:nvPr/>
          </p:nvSpPr>
          <p:spPr>
            <a:xfrm>
              <a:off x="6948360" y="342900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1d528d"/>
                  </a:solidFill>
                  <a:latin typeface="Century Gothic"/>
                </a:rPr>
                <a:t>young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48360" y="486864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1d528d"/>
                  </a:solidFill>
                  <a:latin typeface="Century Gothic"/>
                </a:rPr>
                <a:t>old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80000" y="414972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Century Gothic"/>
                </a:rPr>
                <a:t>Age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80000" y="3860640"/>
              <a:ext cx="0" cy="1008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730-3437-4137-AB0D-EA8DC0301FF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6BF3D-B7BD-4745-9833-F123C3154947}" type="datetime5">
              <a:rPr lang="en-US"/>
              <a:t>Jul 31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ust-Analysis for 4-way LRU: Jo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58435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How to combine information at control-flow joins?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050920" y="2492280"/>
          <a:ext cx="1451160" cy="1822680"/>
        </p:xfrm>
        <a:graphic>
          <a:graphicData uri="http://schemas.openxmlformats.org/drawingml/2006/table">
            <a:tbl>
              <a:tblPr/>
              <a:tblGrid>
                <a:gridCol w="1451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x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s,t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y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364000" y="2492280"/>
          <a:ext cx="1441440" cy="1827360"/>
        </p:xfrm>
        <a:graphic>
          <a:graphicData uri="http://schemas.openxmlformats.org/drawingml/2006/table">
            <a:tbl>
              <a:tblPr/>
              <a:tblGrid>
                <a:gridCol w="144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s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z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x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y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6948360" y="2637000"/>
            <a:ext cx="1320480" cy="1807920"/>
            <a:chOff x="6948360" y="2637000"/>
            <a:chExt cx="1320480" cy="1807920"/>
          </a:xfrm>
        </p:grpSpPr>
        <p:sp>
          <p:nvSpPr>
            <p:cNvPr id="218" name=""/>
            <p:cNvSpPr/>
            <p:nvPr/>
          </p:nvSpPr>
          <p:spPr>
            <a:xfrm>
              <a:off x="6948360" y="263700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1d528d"/>
                  </a:solidFill>
                  <a:latin typeface="Century Gothic"/>
                </a:rPr>
                <a:t>young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48360" y="407664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1d528d"/>
                  </a:solidFill>
                  <a:latin typeface="Century Gothic"/>
                </a:rPr>
                <a:t>old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80000" y="335772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Century Gothic"/>
                </a:rPr>
                <a:t>Age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80000" y="3068640"/>
              <a:ext cx="0" cy="1008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3708360" y="4653000"/>
          <a:ext cx="1436760" cy="1822320"/>
        </p:xfrm>
        <a:graphic>
          <a:graphicData uri="http://schemas.openxmlformats.org/drawingml/2006/table">
            <a:tbl>
              <a:tblPr/>
              <a:tblGrid>
                <a:gridCol w="1436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s,x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y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5442840" y="5180040"/>
            <a:ext cx="219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1d528d"/>
                </a:solidFill>
                <a:latin typeface="Century Gothic"/>
              </a:rPr>
              <a:t>  „</a:t>
            </a:r>
            <a:r>
              <a:rPr b="0" lang="de-DE" sz="2200" spc="-1" strike="noStrike">
                <a:solidFill>
                  <a:srgbClr val="1d528d"/>
                </a:solidFill>
                <a:latin typeface="Century Gothic"/>
              </a:rPr>
              <a:t>Intersection </a:t>
            </a:r>
            <a:endParaRPr b="0" lang="en-US" sz="22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1d528d"/>
                </a:solidFill>
                <a:latin typeface="Century Gothic"/>
              </a:rPr>
              <a:t>+ maximal age“</a:t>
            </a:r>
            <a:endParaRPr b="0" lang="en-US" sz="2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4076640"/>
            <a:ext cx="576360" cy="432000"/>
          </a:xfrm>
          <a:prstGeom prst="line">
            <a:avLst/>
          </a:prstGeom>
          <a:ln w="284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642920" y="4076640"/>
            <a:ext cx="505080" cy="433440"/>
          </a:xfrm>
          <a:prstGeom prst="line">
            <a:avLst/>
          </a:prstGeom>
          <a:ln w="284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ABEA-7EC6-4205-9C59-67BEA48050B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961F2-EA3F-42DA-A25E-2DB71F772B34}" type="datetime5">
              <a:rPr lang="en-US"/>
              <a:t>Jul 31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4:24:22Z</dcterms:created>
  <dc:creator>Donald Duck</dc:creator>
  <dc:description/>
  <dc:language>en-US</dc:language>
  <cp:lastModifiedBy>Jan Reineke</cp:lastModifiedBy>
  <dcterms:modified xsi:type="dcterms:W3CDTF">2007-01-12T12:11:19Z</dcterms:modified>
  <cp:revision>210</cp:revision>
  <dc:subject/>
  <dc:title>Soft Errors in Caches</dc:title>
</cp:coreProperties>
</file>