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23.gif" ContentType="image/gif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13CF-FDC8-4B5C-A6F6-EF72050EF8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are uncertainty and penalty in the context of caches? Cannot classify something as a hit or a miss -&gt; need to assume miss and pay with cache miss penal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nalty is (more or less) independent of replacement policy -&gt; Focus on 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pper bounds on WCET -&gt; for scheduling analysis -&gt; can all critical tasks be execu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re are several reasons for uncertainty: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oss of information, introduction of uncertainty, independent of replacement polic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o capture the speed of recovery we have defined two metrics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this is were the cache replacement policy comes into pl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f we start out from complete uncertainty: how a long a sequence of accesses do we need to observer until we reach a state that is completely know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 long does it take until the cache set may only contain elements from the sequence, that is all unknown contents have been elimin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ame is misleading: It does not replace the most-recently-used element as you might exp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pper bounds on WCET -&gt; for scheduling analysis -&gt; can all critical tasks be execu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py this slide to position 2? To get the whole talk go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lche Reihenfolge? Konsequenzen der Zahlen wiederholen, z.B. instruction cache, straight-line code, wieviele zeilen um gesicherte may-information zu hab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plain values for LRU, FIFO, MRU and PL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IFO: Hit to „oldest“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RU: Access of left-most element just before „big bang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LRU: Access Path after access 0…0 needs to be turned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RU is exp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road audience -&gt; what are cac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 to derive safe upper bounds -&gt; static cache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e of the talk -&gt; predictability metrics (how suitable is a cache replacement policy for proving tight upper bou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me mor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uture Work based on the results and on the shortco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ODO: possibly not assuming pairwise different ac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ches have a huge impact on the timing behaviour of a task -&gt; very important for timing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happens on a memory acc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ind out whether element is contained in the 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f so, retriev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f not, fetch it from main mem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Why not fully-associative? -&gt; too expensive, too many comparisons, determination of cache hit would take too long + update logic more expensive as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Usually, cache sets are independent of each other -&gt; can analyze cache sets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. Spatial locality (load lines not single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4. Temporal locality (-&gt; replacement policy on hits and mis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y is this a good idea? Rationale of LRU replacement: An element that has recently been accessed is more likely to be accessed in the future -&gt; we want to keep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osing: this should give you an idea of how caches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ta-Flow Analysis over Control-Flow Graph: Transfer functions + Join 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 how does an analysis for LRU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ncrete cache states represented by the two abstract sta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w that you have a rough idea of cache analysis we can come back to the real topic of the talk: predictability of cache replacement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C49-B69B-45D8-A18B-AC0F8B81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DF7-AEEA-43E4-9F98-711D47A3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65A-E16A-461B-BCAB-C0C67F6B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8B8-B62D-42C4-8698-4A7173D7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0A11-B85E-4854-B441-A5AFD075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DDD6-116F-4994-8BBD-BB307563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AC00-C083-4E7A-AFC7-BE856672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E829-928C-40C7-8940-184D0C54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F097-42DF-40E1-881D-89BEE062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66CF-A710-4819-AA33-9CF6484B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CB1A-8258-43FC-99DD-D5852E54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40D-0067-41C7-84F1-FDA08F78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43BD-5269-459E-BD3E-A3724040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8223-27A0-47E3-96A3-A36E49D6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9A45-E327-4AC8-AA17-445EBC5A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DD5F-32CB-4FB8-983B-B89DB33C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88F8-5F0C-4427-96CE-4FCE9EF2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D46-F648-4748-B345-40B927F4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EE5-902E-4F9C-83A1-AE9C922E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A59-AC1F-4958-89EA-7C07E57E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02E-7DD9-4C20-BB51-9B0B5719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E8A-2D2D-4F67-9454-265DD0C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3A1-D02C-4D71-9B54-B4F77BE5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69A-4951-45D7-B482-FE99F763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A728-524E-46A2-8D45-ED17009801D6}" type="datetime5">
              <a:rPr b="0" lang="en-GB" sz="1400" spc="-1" strike="noStrike">
                <a:solidFill>
                  <a:srgbClr val="1d528d"/>
                </a:solidFill>
                <a:latin typeface="Arial"/>
              </a:rPr>
              <a:t>31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3887-20CE-4246-A59A-6C1C905145CF}" type="slidenum">
              <a:rPr b="0" lang="en-US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524B-369A-4EB9-B251-7B57BB8A2E3D}" type="datetime5">
              <a:rPr b="0" lang="en-GB" sz="1400" spc="-1" strike="noStrike">
                <a:solidFill>
                  <a:srgbClr val="1d528d"/>
                </a:solidFill>
                <a:latin typeface="Arial"/>
              </a:rPr>
              <a:t>31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25FF-F419-4D47-8DE2-5FFE927FAD35}" type="slidenum">
              <a:rPr b="0" lang="en-US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eb.telia.com/%7Eu51102888/anims/cartoon4/fightanm.gif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Century Gothic"/>
              </a:rPr>
              <a:t>Timing-Predictability of </a:t>
            </a:r>
            <a:br>
              <a:rPr sz="4200"/>
            </a:br>
            <a:r>
              <a:rPr b="0" lang="de-DE" sz="4200" spc="-1" strike="noStrike">
                <a:solidFill>
                  <a:srgbClr val="ffffff"/>
                </a:solidFill>
                <a:latin typeface="Century Gothic"/>
              </a:rPr>
              <a:t>Cache Replacement Polic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99640" y="46526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Jan Reineke - Daniel Gr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Christoph Berg - Reinhard Wilhe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AVACS Virtual Seminar, January 12th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11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TexPoint fonts used in EMF.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Read the TexPoint manual before you delete this box.: </a:t>
            </a:r>
            <a:r>
              <a:rPr b="0" lang="en-US" sz="1800" spc="-1" strike="noStrike">
                <a:solidFill>
                  <a:srgbClr val="1d528d"/>
                </a:solidFill>
                <a:latin typeface="lcmss8"/>
              </a:rPr>
              <a:t>A</a:t>
            </a:r>
            <a:r>
              <a:rPr b="0" lang="en-US" sz="1800" spc="-1" strike="noStrike">
                <a:solidFill>
                  <a:srgbClr val="1d528d"/>
                </a:solidFill>
                <a:latin typeface="cmmi8"/>
              </a:rPr>
              <a:t>A</a:t>
            </a:r>
            <a:r>
              <a:rPr b="0" lang="en-US" sz="1800" spc="-1" strike="noStrike">
                <a:solidFill>
                  <a:srgbClr val="1d528d"/>
                </a:solidFill>
                <a:latin typeface="cmsy8"/>
              </a:rPr>
              <a:t>A</a:t>
            </a:r>
            <a:r>
              <a:rPr b="0" lang="en-US" sz="1800" spc="-1" strike="noStrike">
                <a:solidFill>
                  <a:srgbClr val="1d528d"/>
                </a:solidFill>
                <a:latin typeface="cmex10"/>
              </a:rPr>
              <a:t>A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Predictability in Timing Con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010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ard real-time system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trict timing constrain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Need to derive upper bounds on WCE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840" y="3645000"/>
            <a:ext cx="8176320" cy="2554200"/>
            <a:chOff x="285840" y="3645000"/>
            <a:chExt cx="8176320" cy="2554200"/>
          </a:xfrm>
        </p:grpSpPr>
        <p:sp>
          <p:nvSpPr>
            <p:cNvPr id="229" name=""/>
            <p:cNvSpPr/>
            <p:nvPr/>
          </p:nvSpPr>
          <p:spPr>
            <a:xfrm flipV="1">
              <a:off x="2159280" y="3852360"/>
              <a:ext cx="0" cy="12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85840" y="3645000"/>
              <a:ext cx="8176320" cy="2554200"/>
              <a:chOff x="285840" y="3645000"/>
              <a:chExt cx="8176320" cy="2554200"/>
            </a:xfrm>
          </p:grpSpPr>
          <p:graphicFrame>
            <p:nvGraphicFramePr>
              <p:cNvPr id="231" name=""/>
              <p:cNvGraphicFramePr/>
              <p:nvPr/>
            </p:nvGraphicFramePr>
            <p:xfrm>
              <a:off x="2000520" y="3645000"/>
              <a:ext cx="5715000" cy="2554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0520" y="3645000"/>
                        <a:ext cx="571500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3" name=""/>
              <p:cNvSpPr/>
              <p:nvPr/>
            </p:nvSpPr>
            <p:spPr>
              <a:xfrm>
                <a:off x="7635240" y="5076720"/>
                <a:ext cx="82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entury Gothic"/>
                  </a:rPr>
                  <a:t>time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5840" y="3852720"/>
                <a:ext cx="184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Century Gothic"/>
                  </a:rPr>
                  <a:t>distribution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437400" y="6021360"/>
            <a:ext cx="55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{W|A}CET = {Worst|Average}-Case Execution Time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9A1-F236-439F-81CD-06E2BEC80A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8ECB4-4D44-4512-A254-BDDDF5242E39}" type="datetime5">
              <a:rPr lang="en-US"/>
              <a:t>Jul 31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Uncertainty in Cache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828800"/>
          <a:ext cx="8077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077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BC7-AC26-4439-9C99-F4F473BBB7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D522C-7383-4133-BDFB-2D2BD9C379E8}" type="datetime5">
              <a:rPr lang="en-US"/>
              <a:t>Jul 31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etrics of Predictability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9480" y="1600200"/>
          <a:ext cx="5486400" cy="46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548640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486400" y="2209680"/>
          <a:ext cx="3261960" cy="1579320"/>
        </p:xfrm>
        <a:graphic>
          <a:graphicData uri="http://schemas.openxmlformats.org/drawingml/2006/table">
            <a:tbl>
              <a:tblPr/>
              <a:tblGrid>
                <a:gridCol w="326196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wo  Variants: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M = Misses Only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HM = Hits &amp; Misses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791320" y="1173240"/>
            <a:ext cx="3174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1d528d"/>
                </a:solidFill>
                <a:latin typeface="Century Gothic"/>
              </a:rPr>
              <a:t>evict &amp; fill</a:t>
            </a:r>
            <a:endParaRPr b="0" lang="en-US" sz="4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27520" y="508464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[d,c,x]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3B6-DA87-4BA2-A95C-B145FDF7859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5B112-B6DC-4A48-8209-851D700FF6ED}" type="datetime5">
              <a:rPr lang="en-US"/>
              <a:t>Jul 31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eaning of evict/fill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057400"/>
            <a:ext cx="86407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Evict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hen do we gain any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may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-information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afe information about Cache Miss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ll: </a:t>
            </a:r>
            <a:r>
              <a:rPr b="0" i="1" lang="de-DE" sz="32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-information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hen do we gain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precise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must-information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afe information about Cache Hi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BC2-6EAA-4AB1-A255-57021942141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2D7F7-060E-46D8-99EB-8F994431724D}" type="datetime5">
              <a:rPr lang="en-US"/>
              <a:t>Jul 31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eaning of evict/fill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49560"/>
            <a:ext cx="80010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etrics are independent of analy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evict/fill bound the precision of any static analysis!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Allows to analyze an analysi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s it as precise as it gets w.r.t. the metrics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612-2342-4D1D-8F52-499EECFED47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33258-0907-4349-BEFA-86B1E4D3ADC2}" type="datetime5">
              <a:rPr lang="en-US"/>
              <a:t>Jul 31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placement Poli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– Least Recently Used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ntel Pentium, MIPS 24K/34K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FO – First-In First-Out (Round-robin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ntel XScale, ARM9, ARM11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LRU – Pseudo-LRU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ntel Pentium II+III+IV, PowerPC 75x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RU – Most Recently Used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0FC-B2B3-47B1-989A-B5168C548E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74C66-25E0-4A8A-9E2B-DCDF9EFC477A}" type="datetime5">
              <a:rPr lang="en-US"/>
              <a:t>Jul 31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216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LRU - Least Recently U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628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is the simplest case: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After i </a:t>
            </a:r>
            <a:r>
              <a:rPr b="0" lang="de-DE" sz="2400" spc="-1" strike="noStrike">
                <a:solidFill>
                  <a:srgbClr val="1d528d"/>
                </a:solidFill>
                <a:latin typeface="Century Gothic"/>
                <a:ea typeface="Arial"/>
              </a:rPr>
              <a:t>≤ k (associativity) we have exact must-information for i elements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  <a:ea typeface="Arial"/>
              </a:rPr>
              <a:t>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50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050920" y="3213000"/>
          <a:ext cx="1296720" cy="1822680"/>
        </p:xfrm>
        <a:graphic>
          <a:graphicData uri="http://schemas.openxmlformats.org/drawingml/2006/table">
            <a:tbl>
              <a:tblPr/>
              <a:tblGrid>
                <a:gridCol w="129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722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c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b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558200" y="3213000"/>
          <a:ext cx="1296360" cy="1822680"/>
        </p:xfrm>
        <a:graphic>
          <a:graphicData uri="http://schemas.openxmlformats.org/drawingml/2006/table">
            <a:tbl>
              <a:tblPr/>
              <a:tblGrid>
                <a:gridCol w="129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d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c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b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92256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b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2843280" y="5373720"/>
            <a:ext cx="525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evict(k) = fill(k) = k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546200" y="3573360"/>
            <a:ext cx="433080" cy="576360"/>
            <a:chOff x="1546200" y="3573360"/>
            <a:chExt cx="433080" cy="576360"/>
          </a:xfrm>
        </p:grpSpPr>
        <p:sp>
          <p:nvSpPr>
            <p:cNvPr id="261" name=""/>
            <p:cNvSpPr/>
            <p:nvPr/>
          </p:nvSpPr>
          <p:spPr>
            <a:xfrm>
              <a:off x="15462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57720" y="357336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a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419640" y="3573360"/>
            <a:ext cx="433080" cy="576360"/>
            <a:chOff x="3419640" y="3573360"/>
            <a:chExt cx="433080" cy="576360"/>
          </a:xfrm>
        </p:grpSpPr>
        <p:sp>
          <p:nvSpPr>
            <p:cNvPr id="264" name=""/>
            <p:cNvSpPr/>
            <p:nvPr/>
          </p:nvSpPr>
          <p:spPr>
            <a:xfrm>
              <a:off x="34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684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b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19640" y="3573360"/>
            <a:ext cx="433080" cy="576360"/>
            <a:chOff x="5219640" y="3573360"/>
            <a:chExt cx="433080" cy="576360"/>
          </a:xfrm>
        </p:grpSpPr>
        <p:sp>
          <p:nvSpPr>
            <p:cNvPr id="267" name=""/>
            <p:cNvSpPr/>
            <p:nvPr/>
          </p:nvSpPr>
          <p:spPr>
            <a:xfrm>
              <a:off x="52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3400" y="35733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020000" y="3573360"/>
            <a:ext cx="433080" cy="576360"/>
            <a:chOff x="7020000" y="3573360"/>
            <a:chExt cx="433080" cy="576360"/>
          </a:xfrm>
        </p:grpSpPr>
        <p:sp>
          <p:nvSpPr>
            <p:cNvPr id="270" name=""/>
            <p:cNvSpPr/>
            <p:nvPr/>
          </p:nvSpPr>
          <p:spPr>
            <a:xfrm>
              <a:off x="70200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2720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4B7-8D9D-4490-96D8-584F31E776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3253D-6F45-45AF-A855-1C67CE41BAEF}" type="datetime5">
              <a:rPr lang="en-US"/>
              <a:t>Jul 31, 20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216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IFO – First-In First-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ike LRU in the miss-cas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But hits do 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not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change the stat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0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2050920" y="3213000"/>
          <a:ext cx="1296720" cy="1822680"/>
        </p:xfrm>
        <a:graphic>
          <a:graphicData uri="http://schemas.openxmlformats.org/drawingml/2006/table">
            <a:tbl>
              <a:tblPr/>
              <a:tblGrid>
                <a:gridCol w="129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722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7558200" y="3213000"/>
          <a:ext cx="1296360" cy="1822680"/>
        </p:xfrm>
        <a:graphic>
          <a:graphicData uri="http://schemas.openxmlformats.org/drawingml/2006/table">
            <a:tbl>
              <a:tblPr/>
              <a:tblGrid>
                <a:gridCol w="129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922560" y="3213000"/>
          <a:ext cx="1224000" cy="182268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1546200" y="3573360"/>
            <a:ext cx="433080" cy="576360"/>
            <a:chOff x="1546200" y="3573360"/>
            <a:chExt cx="433080" cy="576360"/>
          </a:xfrm>
        </p:grpSpPr>
        <p:sp>
          <p:nvSpPr>
            <p:cNvPr id="280" name=""/>
            <p:cNvSpPr/>
            <p:nvPr/>
          </p:nvSpPr>
          <p:spPr>
            <a:xfrm>
              <a:off x="15462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57720" y="357336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a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419640" y="3573360"/>
            <a:ext cx="433080" cy="576360"/>
            <a:chOff x="3419640" y="3573360"/>
            <a:chExt cx="433080" cy="576360"/>
          </a:xfrm>
        </p:grpSpPr>
        <p:sp>
          <p:nvSpPr>
            <p:cNvPr id="283" name=""/>
            <p:cNvSpPr/>
            <p:nvPr/>
          </p:nvSpPr>
          <p:spPr>
            <a:xfrm>
              <a:off x="34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684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b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219640" y="3573360"/>
            <a:ext cx="433080" cy="576360"/>
            <a:chOff x="5219640" y="3573360"/>
            <a:chExt cx="433080" cy="576360"/>
          </a:xfrm>
        </p:grpSpPr>
        <p:sp>
          <p:nvSpPr>
            <p:cNvPr id="286" name=""/>
            <p:cNvSpPr/>
            <p:nvPr/>
          </p:nvSpPr>
          <p:spPr>
            <a:xfrm>
              <a:off x="52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43400" y="35733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020000" y="3573360"/>
            <a:ext cx="433080" cy="576360"/>
            <a:chOff x="7020000" y="3573360"/>
            <a:chExt cx="433080" cy="576360"/>
          </a:xfrm>
        </p:grpSpPr>
        <p:sp>
          <p:nvSpPr>
            <p:cNvPr id="289" name=""/>
            <p:cNvSpPr/>
            <p:nvPr/>
          </p:nvSpPr>
          <p:spPr>
            <a:xfrm>
              <a:off x="70200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2720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DDA-CFF7-464C-A34B-C27D862D56F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592A7-61AD-4950-B34A-47C66FA22333}" type="datetime5">
              <a:rPr lang="en-US"/>
              <a:t>Jul 31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RU - Most Recently U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RU-bit records whether line was recently used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oblem: never stabiliz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52480" y="2895480"/>
            <a:ext cx="6172200" cy="2411280"/>
            <a:chOff x="1752480" y="2895480"/>
            <a:chExt cx="6172200" cy="2411280"/>
          </a:xfrm>
        </p:grpSpPr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2666880" y="2895480"/>
              <a:ext cx="3710160" cy="2411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95" name=""/>
            <p:cNvGraphicFramePr/>
            <p:nvPr/>
          </p:nvGraphicFramePr>
          <p:xfrm>
            <a:off x="1752480" y="3124080"/>
            <a:ext cx="817560" cy="946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3124080"/>
                      <a:ext cx="81756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1752480" y="4114440"/>
            <a:ext cx="817560" cy="94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52480" y="4114440"/>
                      <a:ext cx="817560" cy="9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"/>
            <p:cNvGraphicFramePr/>
            <p:nvPr/>
          </p:nvGraphicFramePr>
          <p:xfrm>
            <a:off x="6400800" y="3809880"/>
            <a:ext cx="1523880" cy="817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00800" y="3809880"/>
                      <a:ext cx="1523880" cy="8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01" name="" descr=""/>
          <p:cNvPicPr/>
          <p:nvPr/>
        </p:nvPicPr>
        <p:blipFill>
          <a:blip r:embed="rId8"/>
          <a:stretch/>
        </p:blipFill>
        <p:spPr>
          <a:xfrm>
            <a:off x="2666880" y="2897280"/>
            <a:ext cx="3710160" cy="24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943600" y="5257800"/>
          <a:ext cx="2692440" cy="11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5257800"/>
                    <a:ext cx="269244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7823520" y="3860640"/>
            <a:ext cx="5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,e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A79-57B8-4FF2-A6A5-94F3DC80F0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BD21A-2976-4FD1-8E86-A85B91824ACA}" type="datetime5">
              <a:rPr lang="en-US"/>
              <a:t>Jul 31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061040" cy="1955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4000" y="184464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Tree maintains order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oblem: accesses „rejuvenate“ neighborhood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Pseudo-LR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3048120"/>
            <a:ext cx="58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2720" y="3048120"/>
            <a:ext cx="58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B41-2128-44E9-8E15-37CE0761A6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747A2-F4FF-4267-ADCE-456915E9AA61}" type="datetime5">
              <a:rPr lang="en-US"/>
              <a:t>Jul 31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Predictability in Timing Con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010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ard real-time system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trict timing constrain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Need to derive upper bounds on WCE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85840" y="3645000"/>
            <a:ext cx="8176320" cy="2554200"/>
            <a:chOff x="285840" y="3645000"/>
            <a:chExt cx="8176320" cy="2554200"/>
          </a:xfrm>
        </p:grpSpPr>
        <p:sp>
          <p:nvSpPr>
            <p:cNvPr id="119" name=""/>
            <p:cNvSpPr/>
            <p:nvPr/>
          </p:nvSpPr>
          <p:spPr>
            <a:xfrm flipV="1">
              <a:off x="2159280" y="3852360"/>
              <a:ext cx="0" cy="12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85840" y="3645000"/>
              <a:ext cx="8176320" cy="2554200"/>
              <a:chOff x="285840" y="3645000"/>
              <a:chExt cx="8176320" cy="2554200"/>
            </a:xfrm>
          </p:grpSpPr>
          <p:graphicFrame>
            <p:nvGraphicFramePr>
              <p:cNvPr id="121" name=""/>
              <p:cNvGraphicFramePr/>
              <p:nvPr/>
            </p:nvGraphicFramePr>
            <p:xfrm>
              <a:off x="2000520" y="3645000"/>
              <a:ext cx="5715000" cy="2554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0520" y="3645000"/>
                        <a:ext cx="571500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3" name=""/>
              <p:cNvSpPr/>
              <p:nvPr/>
            </p:nvSpPr>
            <p:spPr>
              <a:xfrm>
                <a:off x="7635240" y="5076720"/>
                <a:ext cx="82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entury Gothic"/>
                  </a:rPr>
                  <a:t>time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5840" y="3852720"/>
                <a:ext cx="184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Century Gothic"/>
                  </a:rPr>
                  <a:t>distribution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437400" y="6021360"/>
            <a:ext cx="55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{W|A}CET = {Worst|Average}-Case Execution Time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3716280"/>
            <a:ext cx="2448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Predictability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3F6-7BA4-41B7-8F67-2224A5EA52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C42FF-DC11-4747-B3A8-E58FC0E130A5}" type="datetime5">
              <a:rPr lang="en-US"/>
              <a:t>Jul 31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6629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sults: tight bou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209080" cy="189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9685440" y="3573360"/>
          <a:ext cx="21333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85440" y="3573360"/>
                    <a:ext cx="2133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9342360" y="4137120"/>
            <a:ext cx="2930760" cy="930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8880" y="4869000"/>
            <a:ext cx="82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Parametric examples prove tightness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231-CE5D-46DA-A9FC-25E43C27F87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1042C-7720-4513-8EDA-26FACEE5EE82}" type="datetime5">
              <a:rPr lang="en-US"/>
              <a:t>Jul 31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162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sults: instances for k=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1897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50920" y="3809880"/>
            <a:ext cx="8785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Question: 8-way PLRU cache,</a:t>
            </a:r>
            <a:r>
              <a:rPr b="0" i="1" lang="de-DE" sz="24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4 instructions per line</a:t>
            </a:r>
            <a:r>
              <a:rPr b="0" i="1" lang="de-DE" sz="24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Assume equal distribution of instructions over 256 sets: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How long a straight-line code sequence is needed to obtain precise must-information?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AA4-3B6E-4BB8-92AF-0E29D54DB00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0A459-4873-4508-9522-0FB141F611C3}" type="datetime5">
              <a:rPr lang="en-US"/>
              <a:t>Jul 31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Can we do something cheap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Analyses that reach perfect precision can be very expensive!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inimum Live-Span (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mls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): How long does an element at least survive in the cache?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Enables cheap analysis that just keeps track of the last 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mls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accesses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B20-02CA-40AC-A1FD-DCE90A51A07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2B2AE-7753-4EBA-B88E-7F397D67E0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69278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Minimum Live-Span -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961080" cy="24894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21948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51A-1E5B-4B10-8975-C8F817DD9BE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9F80A-B502-4456-8E5B-1696CFF209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8084880" cy="3643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4360" y="1628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LRU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956720" y="328464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E79-1E95-48E7-AE5D-7853C1F4395A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1F7E4-F902-4660-9F4A-94B9E11ECEAA}" type="datetime5">
              <a:rPr lang="en-US"/>
              <a:t>Jul 31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16286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FIFO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826920" y="2282760"/>
            <a:ext cx="7634520" cy="41194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737120" y="42210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C14-1460-408B-BCF3-E2208181A253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929B7-9BCA-4F88-A062-7AF8D5872383}" type="datetime5">
              <a:rPr lang="en-US"/>
              <a:t>Jul 31, 20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1628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MRU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848360" cy="4144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7660800" y="31384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k-2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36400" y="429264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-1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990-B482-4E96-A52C-EAFB75EEB53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CF706-7F0A-44A6-B043-6CDC2045ACE3}" type="datetime5">
              <a:rPr lang="en-US"/>
              <a:t>Jul 31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4360" y="1628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PLRU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36000" cy="4101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808400" y="40053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8E3-3BC6-4542-8800-EA968527130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21CE6-63A2-471B-99FD-07085AA82336}" type="datetime5">
              <a:rPr lang="en-US"/>
              <a:t>Jul 31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6999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rst analytical results on the predictability of cache replacement polic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is perfect in terms of our predictability metric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FO and MRU are particularly bad, especially considering the evolution of must-informat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D9C-089B-43F1-9059-79B984B5345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8E17C-00F7-4288-B038-A4DB98DFF0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Find </a:t>
            </a:r>
            <a:r>
              <a:rPr b="1" lang="de-DE" sz="3600" spc="-1" strike="noStrike">
                <a:solidFill>
                  <a:srgbClr val="1d528d"/>
                </a:solidFill>
                <a:latin typeface="Century Gothic"/>
              </a:rPr>
              <a:t>new</a:t>
            </a: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 cache replacement policies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edictabl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heap to implemen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igh (average-case) performanc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F3A-2DE4-4AF3-BC50-F385BEA77C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11242-2A52-48FB-B590-442C98D41119}" type="datetime5">
              <a:rPr lang="en-US"/>
              <a:t>Jul 31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Outloo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10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ach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Static Cache Analysi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edictability Metrics for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ache Replacement Polic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urther Predictability Result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onclus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uture Work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3A4-5632-4524-8A96-9524577B03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DF9B4-D729-48EA-BB88-65C587386EFF}" type="datetime5">
              <a:rPr lang="en-US"/>
              <a:t>Jul 31, 20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Analyze cache analy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Do they ever recover „perfect“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may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/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-information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f so, within evict/fill accesses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Develop precise and efficient analy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dea: Remember last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evict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access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Problem: Accesses are not pairwise different in practice (cache hits! ;-)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8CD-6C26-4647-B731-371D099804D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AE9D9-0355-4CB2-AF6E-B06BB2B8FC0E}" type="datetime5">
              <a:rPr lang="en-US"/>
              <a:t>Jul 31, 20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6964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Simplify access sequences 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&lt;x y z z&gt; </a:t>
            </a:r>
            <a:r>
              <a:rPr b="0" lang="de-DE" sz="2800" spc="-1" strike="noStrike">
                <a:solidFill>
                  <a:srgbClr val="1d528d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&lt;x y z&gt;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!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&lt;x z y z&gt; </a:t>
            </a:r>
            <a:r>
              <a:rPr b="0" lang="de-DE" sz="2800" spc="-1" strike="noStrike">
                <a:solidFill>
                  <a:srgbClr val="1d528d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&lt;x y z&gt; ?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orks for LRU, not for other policies in general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Yields currently leading LRU analysis after additional abstraction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42C-C4D7-46AA-953E-DD7D188823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A4755-9FA7-47B6-AAC1-6D45FA1462C2}" type="datetime5">
              <a:rPr lang="en-US"/>
              <a:t>Jul 31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2149560"/>
            <a:ext cx="80010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Beyond evict/fill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Evict/fill assume complete uncertainty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hat if there is only partial uncertainty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Other useful metrics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054-5E9C-4B20-B389-32192816BB9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705D5-3408-4A01-B257-ECAF9E301D5B}" type="datetime5">
              <a:rPr lang="en-US"/>
              <a:t>Jul 31, 20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447920"/>
            <a:ext cx="6172200" cy="45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5C7-40B3-41DD-BA3A-43F91D4D71D4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88730-F1E4-4279-A08A-9311EE111E54}" type="datetime5">
              <a:rPr lang="en-US"/>
              <a:t>Jul 31, 20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600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aches: How they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Assume an access to </a:t>
            </a:r>
            <a:r>
              <a:rPr b="1" i="1" lang="en-US" sz="3200" spc="-1" strike="noStrike">
                <a:solidFill>
                  <a:srgbClr val="1d528d"/>
                </a:solidFill>
                <a:latin typeface="Century Gothic"/>
              </a:rPr>
              <a:t>a, </a:t>
            </a: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ca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Block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containing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in the cache (</a:t>
            </a:r>
            <a:r>
              <a:rPr b="0" i="1" lang="en-US" sz="2800" spc="-1" strike="noStrike">
                <a:solidFill>
                  <a:srgbClr val="1d528d"/>
                </a:solidFill>
                <a:latin typeface="Century Gothic"/>
              </a:rPr>
              <a:t>hit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): </a:t>
            </a:r>
            <a:br>
              <a:rPr sz="2800"/>
            </a:b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request for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is served in the next cycl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Block</a:t>
            </a:r>
            <a:r>
              <a:rPr b="0" i="1" lang="en-US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not in the cache (</a:t>
            </a:r>
            <a:r>
              <a:rPr b="0" i="1" lang="en-US" sz="2800" spc="-1" strike="noStrike">
                <a:solidFill>
                  <a:srgbClr val="1d528d"/>
                </a:solidFill>
                <a:latin typeface="Century Gothic"/>
              </a:rPr>
              <a:t>miss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): </a:t>
            </a:r>
            <a:br>
              <a:rPr sz="2800"/>
            </a:b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is transferred from main memory to the cache, </a:t>
            </a:r>
            <a:br>
              <a:rPr sz="2800"/>
            </a:b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may replace some block in the cache,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Replacement policies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: LRU, PLRU, FIFO, ...</a:t>
            </a:r>
            <a:br>
              <a:rPr sz="2800"/>
            </a:b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determine how to update the state of the cache upon an access, especially which line to replac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BC7-43A5-4653-B356-EE3E5F5F5AF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26998-C69E-4656-97CF-7633A537828F}" type="datetime5">
              <a:rPr lang="en-US"/>
              <a:t>Jul 31, 20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sults: tight bou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97960" cy="38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B69-FAC6-4F1E-915A-530081D22CF1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B5F77-666D-4E62-A812-906E8370E11E}" type="datetime5">
              <a:rPr lang="en-US"/>
              <a:t>Jul 31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705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aches: Fast Memory on C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447920"/>
            <a:ext cx="871380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Caches are used, becaus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Fast main memory is too expensiv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The speed gap between CPU and memory is too large and increasin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Caches work well in the average cas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Programs access data locally (spatial locality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Programs reuse items (temporal locality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484360" y="4724280"/>
          <a:ext cx="4248360" cy="1675080"/>
        </p:xfrm>
        <a:graphic>
          <a:graphicData uri="http://schemas.openxmlformats.org/drawingml/2006/table">
            <a:tbl>
              <a:tblPr/>
              <a:tblGrid>
                <a:gridCol w="1727280"/>
                <a:gridCol w="1081080"/>
                <a:gridCol w="1440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pee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iz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Registe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0.25 n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500 byte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Cach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64 KB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Main memory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100 n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512 MB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Hard disk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5 m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100 GB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96B-84C2-43FF-B2D5-9493CD23EE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6849F-D4B9-462B-A99C-DCCCB4DB3549}" type="datetime5">
              <a:rPr lang="en-US"/>
              <a:t>Jul 31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6913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-Way Set-Associative C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2879640" cy="579240"/>
        </p:xfrm>
        <a:graphic>
          <a:graphicData uri="http://schemas.openxmlformats.org/drawingml/2006/table">
            <a:tbl>
              <a:tblPr/>
              <a:tblGrid>
                <a:gridCol w="1272960"/>
                <a:gridCol w="814680"/>
                <a:gridCol w="792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ag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Block offse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5280" y="1413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Address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19280" y="3141720"/>
          <a:ext cx="2089080" cy="1004760"/>
        </p:xfrm>
        <a:graphic>
          <a:graphicData uri="http://schemas.openxmlformats.org/drawingml/2006/table">
            <a:tbl>
              <a:tblPr/>
              <a:tblGrid>
                <a:gridCol w="792000"/>
                <a:gridCol w="129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ag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Data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95280" y="33577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Cache Sets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651640" y="3141720"/>
          <a:ext cx="2089080" cy="1004760"/>
        </p:xfrm>
        <a:graphic>
          <a:graphicData uri="http://schemas.openxmlformats.org/drawingml/2006/table">
            <a:tbl>
              <a:tblPr/>
              <a:tblGrid>
                <a:gridCol w="792000"/>
                <a:gridCol w="129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ag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Data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708360" y="3284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…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12000" y="2997360"/>
            <a:ext cx="112716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A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2349360"/>
            <a:ext cx="0" cy="35892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2708280"/>
            <a:ext cx="4248000" cy="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708280"/>
            <a:ext cx="0" cy="43344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2349360"/>
            <a:ext cx="0" cy="266400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5013360"/>
            <a:ext cx="4321080" cy="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149720"/>
            <a:ext cx="0" cy="57456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4724280"/>
            <a:ext cx="576360" cy="576360"/>
          </a:xfrm>
          <a:prstGeom prst="ellipse">
            <a:avLst/>
          </a:prstGeom>
          <a:noFill/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Century Gothic"/>
              </a:rPr>
              <a:t>=?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2349360"/>
            <a:ext cx="0" cy="14292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2492280"/>
            <a:ext cx="5472000" cy="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59640" y="2492280"/>
            <a:ext cx="0" cy="230508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40720" y="4797360"/>
            <a:ext cx="976320" cy="459720"/>
          </a:xfrm>
          <a:prstGeom prst="rect">
            <a:avLst/>
          </a:prstGeom>
          <a:noFill/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d528d"/>
                </a:solidFill>
                <a:latin typeface="Century Gothic"/>
              </a:rPr>
              <a:t>Mux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80360" y="4149720"/>
            <a:ext cx="0" cy="86364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5013360"/>
            <a:ext cx="360360" cy="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5300640"/>
            <a:ext cx="0" cy="64944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93040" y="479736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Yes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Hit!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08720" y="5589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No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Miss!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5300640"/>
            <a:ext cx="0" cy="36036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5013360"/>
            <a:ext cx="360360" cy="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56720" y="3357720"/>
            <a:ext cx="0" cy="5760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833-632B-4DD1-BC99-8B4B2271DD7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B9A7E-DA24-4752-899E-0A30D537235E}" type="datetime5">
              <a:rPr lang="en-US"/>
              <a:t>Jul 31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Example: 4-way LRU-S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2720" y="2997360"/>
          <a:ext cx="1451160" cy="182232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728640" y="1773360"/>
            <a:ext cx="52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= Least Recently Used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348000" y="2997360"/>
          <a:ext cx="1441440" cy="182700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197080" y="3213000"/>
            <a:ext cx="100800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48360" y="1557360"/>
            <a:ext cx="1835280" cy="770040"/>
          </a:xfrm>
          <a:prstGeom prst="rect">
            <a:avLst/>
          </a:prstGeom>
          <a:noFill/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LRU has a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notion of Age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67640" y="2997360"/>
            <a:ext cx="1320480" cy="1807920"/>
            <a:chOff x="7667640" y="2997360"/>
            <a:chExt cx="1320480" cy="1807920"/>
          </a:xfrm>
        </p:grpSpPr>
        <p:sp>
          <p:nvSpPr>
            <p:cNvPr id="166" name=""/>
            <p:cNvSpPr/>
            <p:nvPr/>
          </p:nvSpPr>
          <p:spPr>
            <a:xfrm>
              <a:off x="7667640" y="299736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young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7640" y="443700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old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99280" y="371808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Century Gothic"/>
                </a:rPr>
                <a:t>Age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99280" y="3429000"/>
              <a:ext cx="0" cy="1008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763640" y="486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Miss on </a:t>
            </a:r>
            <a:r>
              <a:rPr b="1" lang="en-US" sz="2800" spc="-1" strike="noStrike">
                <a:solidFill>
                  <a:srgbClr val="1d528d"/>
                </a:solidFill>
                <a:latin typeface="Century Gothic"/>
              </a:rPr>
              <a:t>s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3716280"/>
            <a:ext cx="100800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4148280"/>
            <a:ext cx="1008000" cy="43164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84720" y="2997360"/>
          <a:ext cx="1441440" cy="182700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933800" y="3213000"/>
            <a:ext cx="100836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4869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Hit on </a:t>
            </a:r>
            <a:r>
              <a:rPr b="1" lang="en-US" sz="2800" spc="-1" strike="noStrike">
                <a:solidFill>
                  <a:srgbClr val="1d528d"/>
                </a:solidFill>
                <a:latin typeface="Century Gothic"/>
              </a:rPr>
              <a:t>y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3716280"/>
            <a:ext cx="100800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32360" y="4579920"/>
            <a:ext cx="1008000" cy="144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932360" y="3213000"/>
            <a:ext cx="1009800" cy="93672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A63-3D70-494A-BC75-3C93CC045C3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F40AD-BE72-4DDA-83A3-8D1B4B48FE73}" type="datetime5">
              <a:rPr lang="en-US"/>
              <a:t>Jul 31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ache Analysis: 4-way L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210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Goal: classify accesses as hits or miss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Usually two analyses: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May-Analysis: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For each program point (and calling context):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Which lines </a:t>
            </a:r>
            <a:r>
              <a:rPr b="1" lang="de-DE" sz="2000" spc="-1" strike="noStrike">
                <a:solidFill>
                  <a:srgbClr val="1d528d"/>
                </a:solidFill>
                <a:latin typeface="Century Gothic"/>
              </a:rPr>
              <a:t>may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be in the cache?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classify miss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Must-Analysi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For each program point (and calling context):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Which lines </a:t>
            </a:r>
            <a:r>
              <a:rPr b="1" lang="de-DE" sz="20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be in the cache?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classify hi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20000" y="2492280"/>
            <a:ext cx="1439280" cy="2952720"/>
            <a:chOff x="7020000" y="2492280"/>
            <a:chExt cx="1439280" cy="2952720"/>
          </a:xfrm>
        </p:grpSpPr>
        <p:sp>
          <p:nvSpPr>
            <p:cNvPr id="182" name=""/>
            <p:cNvSpPr/>
            <p:nvPr/>
          </p:nvSpPr>
          <p:spPr>
            <a:xfrm>
              <a:off x="7451640" y="2852640"/>
              <a:ext cx="57564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38920" y="2492280"/>
              <a:ext cx="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20000" y="3500280"/>
              <a:ext cx="57600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83280" y="3500280"/>
              <a:ext cx="57600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379640" y="313992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83280" y="313992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51640" y="4147920"/>
              <a:ext cx="575640" cy="28764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80000" y="378756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882920" y="378756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51640" y="4795920"/>
              <a:ext cx="57564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38920" y="4437000"/>
              <a:ext cx="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38920" y="5084640"/>
              <a:ext cx="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83280" y="5084640"/>
              <a:ext cx="215640" cy="144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099280" y="5156280"/>
              <a:ext cx="144000" cy="7128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243640" y="4653000"/>
              <a:ext cx="0" cy="50328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8099280" y="4579920"/>
              <a:ext cx="144000" cy="7128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82920" y="4579920"/>
              <a:ext cx="215640" cy="21600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DDB-5F16-4429-AF66-D4634177AB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D8F7D-5660-4FA4-B75B-6023630E0427}" type="datetime5">
              <a:rPr lang="en-US"/>
              <a:t>Jul 31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280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ust-Analysis for 4-way LRU: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Which lines 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be in the cache?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abstract domain bounds maximal age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57440" y="3429000"/>
          <a:ext cx="1451160" cy="182232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,t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292720" y="3429000"/>
          <a:ext cx="1441440" cy="182736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t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4141800" y="3645000"/>
            <a:ext cx="1006560" cy="50328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440" y="3645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Access of </a:t>
            </a:r>
            <a:r>
              <a:rPr b="1" lang="en-US" sz="2800" spc="-1" strike="noStrike">
                <a:solidFill>
                  <a:srgbClr val="1d528d"/>
                </a:solidFill>
                <a:latin typeface="Century Gothic"/>
              </a:rPr>
              <a:t>s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4579920"/>
            <a:ext cx="1008000" cy="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140360" y="3644640"/>
            <a:ext cx="1008000" cy="86364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140360" y="5013360"/>
            <a:ext cx="1008000" cy="144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948360" y="3429000"/>
            <a:ext cx="1320480" cy="1807920"/>
            <a:chOff x="6948360" y="3429000"/>
            <a:chExt cx="1320480" cy="1807920"/>
          </a:xfrm>
        </p:grpSpPr>
        <p:sp>
          <p:nvSpPr>
            <p:cNvPr id="209" name=""/>
            <p:cNvSpPr/>
            <p:nvPr/>
          </p:nvSpPr>
          <p:spPr>
            <a:xfrm>
              <a:off x="6948360" y="342900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young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48360" y="486864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old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80000" y="414972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Century Gothic"/>
                </a:rPr>
                <a:t>Age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000" y="3860640"/>
              <a:ext cx="0" cy="1008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FD2-A6F0-4759-A929-BE65FB1902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61D06-4F9B-4668-A658-022ED8864C46}" type="datetime5">
              <a:rPr lang="en-US"/>
              <a:t>Jul 31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ust-Analysis for 4-way LRU: Jo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58435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ow to combine information at control-flow joins?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050920" y="2492280"/>
          <a:ext cx="1451160" cy="182268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,t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364000" y="2492280"/>
          <a:ext cx="1441440" cy="182736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z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6948360" y="2637000"/>
            <a:ext cx="1320480" cy="1807920"/>
            <a:chOff x="6948360" y="2637000"/>
            <a:chExt cx="1320480" cy="1807920"/>
          </a:xfrm>
        </p:grpSpPr>
        <p:sp>
          <p:nvSpPr>
            <p:cNvPr id="218" name=""/>
            <p:cNvSpPr/>
            <p:nvPr/>
          </p:nvSpPr>
          <p:spPr>
            <a:xfrm>
              <a:off x="6948360" y="263700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young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48360" y="407664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old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80000" y="335772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Century Gothic"/>
                </a:rPr>
                <a:t>Age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80000" y="3068640"/>
              <a:ext cx="0" cy="1008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3708360" y="4653000"/>
          <a:ext cx="1436760" cy="1822320"/>
        </p:xfrm>
        <a:graphic>
          <a:graphicData uri="http://schemas.openxmlformats.org/drawingml/2006/table">
            <a:tbl>
              <a:tblPr/>
              <a:tblGrid>
                <a:gridCol w="1436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,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5442840" y="5180040"/>
            <a:ext cx="21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d528d"/>
                </a:solidFill>
                <a:latin typeface="Century Gothic"/>
              </a:rPr>
              <a:t>  „</a:t>
            </a:r>
            <a:r>
              <a:rPr b="0" lang="de-DE" sz="2200" spc="-1" strike="noStrike">
                <a:solidFill>
                  <a:srgbClr val="1d528d"/>
                </a:solidFill>
                <a:latin typeface="Century Gothic"/>
              </a:rPr>
              <a:t>Intersection </a:t>
            </a:r>
            <a:endParaRPr b="0" lang="en-US" sz="22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d528d"/>
                </a:solidFill>
                <a:latin typeface="Century Gothic"/>
              </a:rPr>
              <a:t>+ maximal age“</a:t>
            </a:r>
            <a:endParaRPr b="0" lang="en-US" sz="2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076640"/>
            <a:ext cx="57636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642920" y="4076640"/>
            <a:ext cx="505080" cy="43344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E47-484C-4EDA-9C27-2366C437D6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D6F3E-94A8-4CAB-A7E1-7926BB2B78D3}" type="datetime5">
              <a:rPr lang="en-US"/>
              <a:t>Jul 31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4:24:22Z</dcterms:created>
  <dc:creator>Donald Duck</dc:creator>
  <dc:description/>
  <dc:language>en-US</dc:language>
  <cp:lastModifiedBy>Jan Reineke</cp:lastModifiedBy>
  <dcterms:modified xsi:type="dcterms:W3CDTF">2007-01-12T12:11:19Z</dcterms:modified>
  <cp:revision>210</cp:revision>
  <dc:subject/>
  <dc:title>Soft Errors in Caches</dc:title>
</cp:coreProperties>
</file>