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A31-4B25-4DCD-8FAB-3C5916EA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0D5-8E85-4EAD-8683-AAB754E4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8C3-E2B9-4E1E-833B-962E2DC5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B1F-3F09-440B-B481-2CD7DE34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88F-B06E-458E-8903-E80AF953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6FE-CD1E-4B45-A0DB-D934E84B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6FC-0E86-4AE3-BE13-62CFC6D9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CEB-8401-44B8-852C-90494DB3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483-AA55-49B0-B8D3-EBAD7779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A90-092D-40B5-86B9-15A06915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31C-9876-4D23-BC9A-B590B9EF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D49-FF50-41CE-97DD-37A87627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121520" y="5630760"/>
          <a:ext cx="955800" cy="99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1520" y="5630760"/>
                    <a:ext cx="95580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76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769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8984-2AAF-47F7-8D0A-D36359555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Eule" descr=""/>
          <p:cNvPicPr/>
          <p:nvPr/>
        </p:nvPicPr>
        <p:blipFill>
          <a:blip r:embed="rId4"/>
          <a:stretch/>
        </p:blipFill>
        <p:spPr>
          <a:xfrm>
            <a:off x="990720" y="579744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892160" y="6040440"/>
            <a:ext cx="5270760" cy="426960"/>
          </a:xfrm>
          <a:custGeom>
            <a:avLst/>
            <a:gdLst/>
            <a:ahLst/>
            <a:rect l="l" t="t" r="r" b="b"/>
            <a:pathLst>
              <a:path w="3148" h="269">
                <a:moveTo>
                  <a:pt x="0" y="0"/>
                </a:moveTo>
                <a:lnTo>
                  <a:pt x="3148" y="0"/>
                </a:lnTo>
                <a:lnTo>
                  <a:pt x="3148" y="265"/>
                </a:lnTo>
                <a:lnTo>
                  <a:pt x="2" y="269"/>
                </a:lnTo>
                <a:lnTo>
                  <a:pt x="20" y="185"/>
                </a:lnTo>
                <a:cubicBezTo>
                  <a:pt x="23" y="155"/>
                  <a:pt x="23" y="120"/>
                  <a:pt x="20" y="89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d8d98"/>
              </a:gs>
              <a:gs pos="100000">
                <a:srgbClr val="eded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39760" y="6021360"/>
            <a:ext cx="731880" cy="432000"/>
          </a:xfrm>
          <a:custGeom>
            <a:avLst/>
            <a:gdLst/>
            <a:ahLst/>
            <a:rect l="l" t="t" r="r" b="b"/>
            <a:pathLst>
              <a:path w="461" h="272">
                <a:moveTo>
                  <a:pt x="461" y="5"/>
                </a:moveTo>
                <a:lnTo>
                  <a:pt x="2" y="0"/>
                </a:lnTo>
                <a:lnTo>
                  <a:pt x="0" y="272"/>
                </a:lnTo>
                <a:lnTo>
                  <a:pt x="455" y="263"/>
                </a:lnTo>
                <a:lnTo>
                  <a:pt x="437" y="173"/>
                </a:lnTo>
                <a:cubicBezTo>
                  <a:pt x="435" y="142"/>
                  <a:pt x="439" y="105"/>
                  <a:pt x="443" y="77"/>
                </a:cubicBezTo>
                <a:lnTo>
                  <a:pt x="461" y="5"/>
                </a:lnTo>
                <a:close/>
              </a:path>
            </a:pathLst>
          </a:custGeom>
          <a:gradFill rotWithShape="0">
            <a:gsLst>
              <a:gs pos="0">
                <a:srgbClr val="8d8d98"/>
              </a:gs>
              <a:gs pos="100000">
                <a:srgbClr val="eded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924680" y="6039000"/>
            <a:ext cx="927360" cy="431640"/>
          </a:xfrm>
          <a:custGeom>
            <a:avLst/>
            <a:gdLst/>
            <a:ahLst/>
            <a:rect l="l" t="t" r="r" b="b"/>
            <a:pathLst>
              <a:path w="457" h="272">
                <a:moveTo>
                  <a:pt x="0" y="5"/>
                </a:moveTo>
                <a:lnTo>
                  <a:pt x="455" y="0"/>
                </a:lnTo>
                <a:lnTo>
                  <a:pt x="457" y="272"/>
                </a:lnTo>
                <a:lnTo>
                  <a:pt x="0" y="270"/>
                </a:lnTo>
                <a:lnTo>
                  <a:pt x="0" y="5"/>
                </a:lnTo>
                <a:close/>
              </a:path>
            </a:pathLst>
          </a:custGeom>
          <a:gradFill rotWithShape="0">
            <a:gsLst>
              <a:gs pos="0">
                <a:srgbClr val="8d8d98"/>
              </a:gs>
              <a:gs pos="100000">
                <a:srgbClr val="eded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Exploiting SIMD Instruc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32E-218D-44A0-9DF6-8BE60847D4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Vector Parallelis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bset of superword-level parallelis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llustration for two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ner loop of the motion estimation algorithm used for MPEG encoding. Not vectorizable as is, but can be molded into vectorizable form by transform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de sequence that no vector compiler known is able to vectorize, but that can be easiliy tackled by SLP techni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A50-8C78-414B-BFC5-8B842504F0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Example 1: Vector Parallelism View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77640" y="1447920"/>
            <a:ext cx="3488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for (i=0; i&lt;16; i++) {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localdiff = ref[i] - curr[i]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iff = diff + abs(localdiff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79040" y="1447920"/>
            <a:ext cx="2954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for (i=0; i&lt;16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T[i] = ref[i] - curr[i]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for (i=0; i&lt;16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iff = diff + abs(T[i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1400" y="3656160"/>
            <a:ext cx="302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Vectorization inhibit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loop-carried 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function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654200"/>
            <a:ext cx="99072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654200"/>
            <a:ext cx="190512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2111400"/>
            <a:ext cx="160020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568600"/>
            <a:ext cx="685800" cy="30492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0" y="0"/>
                </a:moveTo>
                <a:cubicBezTo>
                  <a:pt x="60" y="96"/>
                  <a:pt x="120" y="192"/>
                  <a:pt x="192" y="192"/>
                </a:cubicBezTo>
                <a:cubicBezTo>
                  <a:pt x="264" y="192"/>
                  <a:pt x="392" y="32"/>
                  <a:pt x="432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2568600"/>
            <a:ext cx="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41600" y="3048120"/>
            <a:ext cx="339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calar Expansio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allocates a new element in 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temporary array for each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iteration in the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Loop fission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divides the statements into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loo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First loop is vectorizable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second n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1828800"/>
            <a:ext cx="990720" cy="380880"/>
          </a:xfrm>
          <a:custGeom>
            <a:avLst/>
            <a:gdLst>
              <a:gd name="textAreaLeft" fmla="*/ 123840 w 990720"/>
              <a:gd name="textAreaRight" fmla="*/ 866880 w 9907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6480" y="2103480"/>
            <a:ext cx="1049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sca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expa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loop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EF8-30FF-448F-9913-E4B7CA7E5E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257800" y="1523880"/>
            <a:ext cx="1066680" cy="83844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1523880"/>
            <a:ext cx="838080" cy="83844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1523880"/>
            <a:ext cx="1066680" cy="83844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Example1: SLP View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01400" y="1143000"/>
            <a:ext cx="3488040" cy="1425600"/>
            <a:chOff x="401400" y="1143000"/>
            <a:chExt cx="3488040" cy="1425600"/>
          </a:xfrm>
        </p:grpSpPr>
        <p:sp>
          <p:nvSpPr>
            <p:cNvPr id="122" name=""/>
            <p:cNvSpPr/>
            <p:nvPr/>
          </p:nvSpPr>
          <p:spPr>
            <a:xfrm>
              <a:off x="401400" y="1143000"/>
              <a:ext cx="34880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ourier10 BT"/>
                </a:rPr>
                <a:t>for (i=0; i&lt;16; i++) {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ourier10 BT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Courier10 BT"/>
                </a:rPr>
                <a:t>localdiff = ref[i] - curr[i];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ourier10 BT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Courier10 BT"/>
                </a:rPr>
                <a:t>diff = diff + abs(localdiff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ourier10 BT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90440" y="1349280"/>
              <a:ext cx="99072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19040" y="1349280"/>
              <a:ext cx="190512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19040" y="1806480"/>
              <a:ext cx="160020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38160" y="2263680"/>
              <a:ext cx="685800" cy="30492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0" y="0"/>
                  </a:moveTo>
                  <a:cubicBezTo>
                    <a:pt x="60" y="96"/>
                    <a:pt x="120" y="192"/>
                    <a:pt x="192" y="192"/>
                  </a:cubicBezTo>
                  <a:cubicBezTo>
                    <a:pt x="264" y="192"/>
                    <a:pt x="392" y="32"/>
                    <a:pt x="432" y="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23960" y="2263680"/>
              <a:ext cx="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00960" y="3162240"/>
            <a:ext cx="39146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for (i=0; i&lt;16; i+=4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localdiff = ref[i+0] - curr[i+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iff = diff + abs(localdiff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localdiff = ref[i+1] - curr[i+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iff = diff + abs(localdiff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localdiff = ref[i+2] - curr[i+2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iff = diff + abs(localdiff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localdiff = ref[i+3] - curr[i+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iff = diff + abs(localdiff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1561680" y="2552400"/>
            <a:ext cx="761760" cy="381240"/>
          </a:xfrm>
          <a:custGeom>
            <a:avLst/>
            <a:gdLst>
              <a:gd name="textAreaLeft" fmla="*/ 95040 w 761760"/>
              <a:gd name="textAreaRight" fmla="*/ 666720 w 76176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27160" y="2544840"/>
            <a:ext cx="154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loop unrolling  ( 4x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48920" y="1066680"/>
            <a:ext cx="40212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for (i=0; i&lt;16; i+=4) {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localdiff0 = ref[i+0] - curr[i+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localdiff1 = ref[i+1] - curr[i+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localdiff2 = ref[i+2] - curr[i+2]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localdiff3 = ref[i+3] - curr[i+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iff = diff + abs(localdiff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iff = diff + abs(localdiff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iff = diff + abs(localdiff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iff = diff + abs(localdiff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7790600">
            <a:off x="3352680" y="2714040"/>
            <a:ext cx="2514600" cy="380880"/>
          </a:xfrm>
          <a:custGeom>
            <a:avLst/>
            <a:gdLst>
              <a:gd name="textAreaLeft" fmla="*/ 314280 w 2514600"/>
              <a:gd name="textAreaRight" fmla="*/ 2200320 w 25146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78520" y="3809880"/>
            <a:ext cx="134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scalar rena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grouping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re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1447920"/>
            <a:ext cx="37339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2590920"/>
            <a:ext cx="3276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562720" y="2362320"/>
            <a:ext cx="68580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781680" y="35053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10840" y="48816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3300"/>
                </a:solidFill>
                <a:latin typeface="Tahoma"/>
              </a:rPr>
              <a:t>vectoriz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66720" y="442440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3300"/>
                </a:solidFill>
                <a:latin typeface="Tahoma"/>
              </a:rPr>
              <a:t>not vectoriz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50320" y="533412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milar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B9F-EA6A-436E-8FA1-D0BCFD65FE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Example2: Not Vectorizable But Amenable to SL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equired for vectoriza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construct an equivalent for-lo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estore induction 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eroll the lo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25360" y="1600200"/>
            <a:ext cx="3594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o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st[0] = (src1[0]+src2[0])&gt;&gt;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st[1] = (src1[1]+src2[1])&gt;&gt;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st[2] = (src1[2]+src2[2])&gt;&gt;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st[3] = (src1[3]+src2[3])&gt;&gt;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st+=4;  //pointer in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src1+=4; //pointer in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src2+=4; //pointer inc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} while (dst!=e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59092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38000" y="1863720"/>
            <a:ext cx="373032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o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*dst = (*src1 +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ourier10 BT"/>
              </a:rPr>
              <a:t>SIMD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*src2)&gt;&gt;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ourier10 BT"/>
              </a:rPr>
              <a:t>SIMD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st+=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src1+=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src2+=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} while (dst!=e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6640" y="2971800"/>
            <a:ext cx="12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SLP explo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CB7-1A3A-415C-ABCF-984061D6DE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4572000"/>
            <a:ext cx="365760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4572000"/>
            <a:ext cx="373356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Loop-Level Parallelis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Loop level parallelism refers to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fine-graine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course-graine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parallelism; vector parallelism is a subset of loop-level parallel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eneral loop-level parallelism is typically exploited by a multiprocessor or a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IM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Multiple Instructions Multiple Data) mach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Fine-grained) parallel loops may not yield performance gains when distributed to several machines because of fine-grain synchronization or loop-carried communica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necessary to find course-grain parallel loop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658440" y="4543560"/>
            <a:ext cx="3808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for (i=0; i&lt;16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localdiff1 = ref1[i] – curr1[i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iff1 = diff1 + abs(localdiff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97000" y="4543560"/>
            <a:ext cx="3808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for (j=0; j&lt;16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localdiff2 = ref2[i] – curr2[i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diff2 = diff2 + abs(localdiff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10 B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40520" y="426708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9900"/>
                </a:solidFill>
                <a:latin typeface="Tahoma"/>
              </a:rPr>
              <a:t>concurrent exec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9D5-B16D-4B01-9302-362FBDA194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SIMD-Parallelis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ften associated with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assively parallel supercomputer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e.g. IlliacIV (1968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n this course denoted SLP instead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IMD supercomputers: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any processor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orking synchroneously on a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ingle instruction stream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 Distribution of data to these processors is expensiv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utomatic SIMD parallelization focuses on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ata</a:t>
            </a:r>
            <a:br>
              <a:rPr sz="2000"/>
            </a:b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    distribution problem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class of applications for which these SIM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 compilers are successful even mor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restrictiv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 than that of vector and MIMD machi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B75-7F26-41DA-BC06-C693019F01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Instruction-Level Parallelis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uperword-level parallelism can also be viewed as a subset of instruction-level parallelis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struction-level parallelism: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imultaneous executi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everal basic machine operation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either by overlapping execution (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pipelin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), multiple execution units (classical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VLIW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), multiple pipelines (classical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uperscalar architecture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), or combinations of thos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Loop unrolling techniques are very important for ILP algorithms and for SLP technique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ncorporating SLP algorithms at low additional cost is possible since unrolling often is done any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E81-24F1-4983-BAED-9E1B60ED3F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Algorithm for Exploiting SL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Loop unroll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transform vector parallelism into SL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Alignment analysi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determine address alignment of each load/store (for architectures not supporting unaligned memory acc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ransformation of IR into a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low-level 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pplication of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tandard compiler optimization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to remove redundant computations and spurious data dependen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Cor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f algorith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Locate statements with </a:t>
            </a: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adjacent memory references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and pack them into groups of size 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Discover </a:t>
            </a: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more groups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based on the active set of packed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erge all groups into larger </a:t>
            </a: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clusters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of a size consistent with the superword datapath width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Produce a </a:t>
            </a: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new schedule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for each basic block where groups of packed statements are replaced by </a:t>
            </a: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SIMD instructions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534-7E94-402D-B308-F55C363456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Phases of the Algorith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oop unrolling: The unroll factor must be customized to the data size used within the loop. E.g. a vectorizable loop containing 16-bit values should be unrolled 8 times in an 128-bit datap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ignment analys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termines the alignment of memory accesses (load/stor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equired for architectures not supporting unaligned memory access to avoid merging code for every load and sto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ased on an enhanced pointer analysis method for C sources [Rugina,Rinard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7A8-7B4D-457C-8E7A-CC74A5BF00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Pre-Optimiz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Using a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3-address representati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for SLP analysis is convenient since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etection of isomorphic statement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s simple (but difficult at high level due to the expression tree structur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Load/stores ar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annotate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ith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original memory acces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nformation before address calc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nsure that parallelism is not extracted from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redundant computation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constant propagation, copy propagation, dead code elimination, common subexpression elimination, loop-invariant code motion, redundant load/store elim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calar renam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to remove output and anti dependen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28C-1DE4-488D-9747-4C3641DDDB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SIMD Instruc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veloped originally because of increasing focus on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ultimedia application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IM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Single Instruction Multiple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IMD-Instructi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instruction operating concurrently on data that are packed in a single register or memory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05120" y="3200400"/>
            <a:ext cx="4724280" cy="2666880"/>
            <a:chOff x="1905120" y="3200400"/>
            <a:chExt cx="4724280" cy="2666880"/>
          </a:xfrm>
        </p:grpSpPr>
        <p:sp>
          <p:nvSpPr>
            <p:cNvPr id="51" name=""/>
            <p:cNvSpPr/>
            <p:nvPr/>
          </p:nvSpPr>
          <p:spPr>
            <a:xfrm>
              <a:off x="2590920" y="4647960"/>
              <a:ext cx="3276720" cy="6098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67440" y="3200400"/>
              <a:ext cx="2361960" cy="3808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ahoma"/>
                </a:rPr>
                <a:t>Halfword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120" y="3200400"/>
              <a:ext cx="2362320" cy="3808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ahoma"/>
                </a:rPr>
                <a:t>Halfword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67440" y="4038480"/>
              <a:ext cx="2361960" cy="3808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ahoma"/>
                </a:rPr>
                <a:t>Halfword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4038480"/>
              <a:ext cx="2362320" cy="3808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ahoma"/>
                </a:rPr>
                <a:t>Halfword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67440" y="5486400"/>
              <a:ext cx="2361960" cy="3808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ahoma"/>
                </a:rPr>
                <a:t>Destination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5486400"/>
              <a:ext cx="2362320" cy="3808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ahoma"/>
                </a:rPr>
                <a:t>Destination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9520" y="4800600"/>
              <a:ext cx="304920" cy="304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81840" y="4800600"/>
              <a:ext cx="304560" cy="304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1800" y="5105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410080" y="46479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67240" y="46479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46479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047760" y="46479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667240" y="35809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276720" y="441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029200" y="35809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9040" y="441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4120" y="5105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4038840" y="4724280"/>
              <a:ext cx="457200" cy="50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Top">
                <a:avLst>
                  <a:gd name="adj" fmla="val 319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Tahoma"/>
                </a:rPr>
                <a:t>O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  <a:ea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6DE-8D5C-4C70-93D3-9448DF7D31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Terminolog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Pack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n-tuple &lt;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...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&gt; where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...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re independent isomorphic statements in a basic blo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PackSe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set of pac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Pai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Pack of size two. The first statement is considered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left elemen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the second statement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right elemen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atements are allowed to belong to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two pair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s long as they occupy a left position in one of the pairs and a right position in the oth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A51-60E4-43AB-BEEF-F246FBF921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Identifying Adjacent Memory Referenc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PackSet </a:t>
            </a:r>
            <a:r>
              <a:rPr b="1" lang="de-DE" sz="1800" spc="-1" strike="noStrike">
                <a:solidFill>
                  <a:srgbClr val="ff3300"/>
                </a:solidFill>
                <a:latin typeface="Courier10 BT"/>
              </a:rPr>
              <a:t>find_adj_refs</a:t>
            </a: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 ( BasicBlock B,  PackSet P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forall statements s from B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foreach s' in B with s'!=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if has_mem_ref(s) &amp;&amp; has_mem_ref(s')</a:t>
            </a: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if adjacent (s,s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align=get_alignment(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if (stmts_can_pack(B,P,s,s',align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            </a:t>
            </a: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add &lt;s,s'&gt; to 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        </a:t>
            </a: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00D-380A-4015-96D9-CEE9FA02EE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419880" y="1981080"/>
            <a:ext cx="167652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1981080"/>
            <a:ext cx="1371600" cy="21337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981080"/>
            <a:ext cx="1676520" cy="28195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Identifying Adjacent Memory References - Examp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45920" y="1981080"/>
            <a:ext cx="1613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b=a[i+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c=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d=b+c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e=a[i+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f=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g=e+f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h=a[i+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j=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k=h+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07720" y="1981080"/>
            <a:ext cx="1247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c=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d=b+c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f=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g=e+f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j=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k=h+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6840" y="1981080"/>
            <a:ext cx="2527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b=a[i+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e=a[i+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e=a[i+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7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h=a[i+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85920" y="16002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96160" y="16002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52040" y="16002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895480"/>
            <a:ext cx="1295280" cy="30492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30800" y="3200400"/>
            <a:ext cx="174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adjacent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reference iden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30920" y="5210280"/>
            <a:ext cx="309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U: Set of unpacked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P: Set of packed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AB8-C841-451B-AA78-F1802A1410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Extending the PackSe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new candidate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that can ei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produce needed operands in packed form, 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use existing packed data as source oper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dea: follow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ef-us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use-def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chains of existing PackSet entries. If these chains lead to fresh packable statements a new pair is created and added to the PackS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or two statements to b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packab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they must meet the following criter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the statements are</a:t>
            </a: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 isomorph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the statements are </a:t>
            </a: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left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statement is not already packed in left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right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statement is not already packed in right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alignment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information is consist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xecution time of the new parallel operation is estimated to be </a:t>
            </a: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less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than in the sequential ver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FDC-283E-41B8-ABAA-54641DB68F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Extending the PackSe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alysis computes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estimated speed-up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f each potential SIMD instruction based of a cost model of each instruction added or removed including any packaging or unpackaging require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s new groups are added to the PackSet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alignment information is propagate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from existing groups via use-def or def-use chains. New groups are created only if their alignment requirements are consistent with those already in pla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hen a singl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efinition has multiple use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the most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profitab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packing possibility is selected. These groups are added to the PackSet in order of their estimated profitability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as long as there are no conflict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ith existing entr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DDB-B5E0-4226-972D-D1161257A8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Extending the PackSet - Examp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924200" y="1981080"/>
            <a:ext cx="158112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920" y="1981080"/>
            <a:ext cx="1371600" cy="21337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38520" y="1981080"/>
            <a:ext cx="216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2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c=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3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d=b+c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5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f=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6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g=e+f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8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j=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9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k=h+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51160" y="1981080"/>
            <a:ext cx="2527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b=a[i+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e=a[i+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e=a[i+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7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h=a[i+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6760" y="16002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56000" y="16002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87920" y="2362320"/>
            <a:ext cx="1295280" cy="30456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2720" y="2666880"/>
            <a:ext cx="18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Extension of PackS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following def-use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1981080"/>
            <a:ext cx="1581120" cy="27432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21320" y="1981080"/>
            <a:ext cx="126036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23520" y="1981080"/>
            <a:ext cx="1918080" cy="13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2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c=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5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f=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8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j=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15520" y="1981080"/>
            <a:ext cx="2161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b=a[i+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e=a[i+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e=a[i+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h=a[i+2]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3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d=b+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6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g=e+f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6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g=e+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9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k=h+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69160" y="16002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18760" y="16002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294920" y="2133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371240" y="23623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60020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447560" y="32767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5D6-7AA0-478D-B50A-76CF6721FC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Extending the PackSet - Examp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870200" y="1981080"/>
            <a:ext cx="1581120" cy="27432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981080"/>
            <a:ext cx="126036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92880" y="1981080"/>
            <a:ext cx="1918080" cy="13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2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c=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5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f=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8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j=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9120" y="1981080"/>
            <a:ext cx="2161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b=a[i+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e=a[i+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e=a[i+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h=a[i+2]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3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d=b+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6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g=e+f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6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g=e+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9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k=h+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2760" y="16002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02000" y="16002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87920" y="2362320"/>
            <a:ext cx="1295280" cy="30456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85960" y="2666880"/>
            <a:ext cx="189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Extension of PackS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ahoma"/>
              </a:rPr>
              <a:t>following use.-def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86600" y="1295280"/>
            <a:ext cx="1581120" cy="42674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21320" y="1981080"/>
            <a:ext cx="126036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96440" y="1295280"/>
            <a:ext cx="2161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b=a[i+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e=a[i+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e=a[i+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h=a[i+2]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3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d=b+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6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g=e+f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6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g=e+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10 BT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k=h+j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2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c=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5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f=6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5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f=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(8)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j=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69160" y="16002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99800" y="51055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1371240" y="2209680"/>
            <a:ext cx="6094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1294920" y="26665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1219320" y="274284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1143000" y="3276720"/>
            <a:ext cx="8380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A1C-3A0C-479B-A343-7417C614ED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Combin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ll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profitable pair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have been chosen up to now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wo groups can b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combine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f the left statement of one is the same as the right statement of the other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djacent memory access identification uses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alignment informa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no pairs will be generated containing memory references crossing an alignment boundary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combination phase will never produce a group that spans an alignment boundary so that combined groups are guaranteed to be less than or equal to the superword datapath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40F-6C3E-4B0F-8579-62FBAC478A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343400" y="5181480"/>
            <a:ext cx="83808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Schedul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atements within a group must b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independen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nd can be executed in parall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xecutiong two groups can caus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ependence violation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 dependence edge is drawn from group g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to g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if a statement in g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is dependent from a statement in g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 (non-trivial) </a:t>
            </a: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cycle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in this graph indicates that the set of chosen groups is invalid and at least one group has to be eliminated. This can be expected to occur seldomly in pract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4419720"/>
            <a:ext cx="83808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8720" y="4343400"/>
            <a:ext cx="170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a=b+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f=d+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e=p+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k=x+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0"/>
            <a:endCxn id="228" idx="2"/>
          </p:cNvCxnSpPr>
          <p:nvPr/>
        </p:nvCxnSpPr>
        <p:spPr>
          <a:xfrm flipH="1" rot="16200000">
            <a:off x="4085280" y="4998600"/>
            <a:ext cx="1315080" cy="2160"/>
          </a:xfrm>
          <a:prstGeom prst="curvedConnector5">
            <a:avLst>
              <a:gd name="adj1" fmla="val -17387"/>
              <a:gd name="adj2" fmla="val 19740000"/>
              <a:gd name="adj3" fmla="val -17387"/>
            </a:avLst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 flipV="1">
            <a:off x="4724280" y="4826160"/>
            <a:ext cx="0" cy="30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004A-E94A-4FA1-8131-5857C39060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Schedul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hen a group of packed statements is scheduled, a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new SIMD instruc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s emitted. If this new instruction requires operand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packin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reshufflin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he necessary operands is performed first. Similarly, if any statements require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unpackin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f source operand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algorithm assumes that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all dat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re in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unpacke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configuration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upon entr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o the bloc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ll variables that are alive on exit are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unpacke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the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en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f the bloc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mprovement by dedicated analysis po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85A-762B-4B56-93A5-647F0CCC92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SIMD Instruc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ast: mostly used for small data types (8-bit, 16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uture: 128-bit registers enabling simultaneous access to 4 32-bit wo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MD execution units currently are appearing in desktop microprocessors for several reas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impl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eplicated functional units often already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o heavily ported register file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imple, amenable to scal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04F-F689-4F9A-887E-D31254243D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Simple Version of the Algorith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ector parallelism: execution of multiple iterations of an instruction using a single vector oper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ossible implementation by comb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unrol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limited form of SLP-packing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, restricted to unrolled versions of the same stat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ith this technique, each statement has only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one possible group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no search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required. Every statement can be packed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automatically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ith its siblings if they are found to be independ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Extremely si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artially vectorizable loops can be parallelized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without complicated loop transform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owever: since unroll factor must be consistent with vector size, large blocks result for long vector architectu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DC6-9244-4E29-BDF4-66C34310C6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Architectural Limitations to SL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mplex CISC-like instructions that are hard to exploit by automatic code generation methods at all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ften SLP is only viewed as multimedia extension and only implemented for a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ubset of the instruction se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e.g. not for floating-point operations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Restricted interconnectivity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between register banks limit possible data moves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ad support for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pack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unpack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limits the achievable speed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379-AC89-4D0F-9264-15089A1D5A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Advantages of SL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Robustnes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vectorization often depends on skilful (compiler-aware) loop-implementation at C-level; SLP works at lower level and is more independent of the high-level programming styl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calability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linear complexity of the SLP algorithm (except DDG computation)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implicity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comparatively easy to implemen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Universatility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vectorization only applicable for loops and arrays, SLP can also be exploited at basic block level. Consequence: less code growth so that it is considerably more suited for systems with significant memory limitations (embedded system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161-535A-4BC4-9F81-6B19D3BA7F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Exploiting SIMD Instruc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Inline assemb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pecialized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 library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Vectorization technique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developed to parallelize scientific code for vector machi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Pr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well-understo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many applications are vecoriz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Contr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often very difficult since complex loop transformation like loop fission and scalar expansion might be necessar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ncapable of locating SIMD-style parallelism with basic blo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requires large amounts of parallelism to achieve speed-u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lgorithms for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uperword-level parallelism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ext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uperior to the others, but not available in contemporary commercial compil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E93-C8EC-408C-B5CE-191B8376D0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Types of Parallelis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ctor paralle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perword-level paralle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oop-level paralle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MD paralle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struction-level paralle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BF6-830A-4036-A5A7-FFF14C0777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Superword-Level Parallelism (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the same way that loop unrolling translates loop-level parallelism into instruction-level parallelism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ctor parallelism can be transformed into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superword-level parallelism (SLP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LP targets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basic blocks instead of loop nes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nd allows for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parallelization of vectorizable loop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using the same basic block analysis. Thus SLP can also be profitable if parallelism is scarce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Non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f the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complicated loop transformation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ypically associated with vectorization are requi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4FA7-C773-4E97-8656-D684749776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Superword-Level Parallelism (2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uperword-Level Parallelism (SLP)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Form of SIMD-parallelism in which source and result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operand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f a SIMD instruction ar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packe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n larger storage word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Isomorphic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statements: statements that contain the same operations in the same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etection of SLP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identification of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independen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isomorphic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statements within a basic block. After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tatement pack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they can be executed in parall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1303200" y="4267080"/>
            <a:ext cx="19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a=b+c*z[i+0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d=e+f*z[i+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r=s+t*z[i+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10 BT"/>
              </a:rPr>
              <a:t>w=x+y*z[i+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099320" y="4267080"/>
            <a:ext cx="4125240" cy="1191240"/>
            <a:chOff x="4099320" y="4267080"/>
            <a:chExt cx="4125240" cy="1191240"/>
          </a:xfrm>
        </p:grpSpPr>
        <p:grpSp>
          <p:nvGrpSpPr>
            <p:cNvPr id="83" name=""/>
            <p:cNvGrpSpPr/>
            <p:nvPr/>
          </p:nvGrpSpPr>
          <p:grpSpPr>
            <a:xfrm>
              <a:off x="4937400" y="4267080"/>
              <a:ext cx="320040" cy="1191240"/>
              <a:chOff x="4937400" y="4267080"/>
              <a:chExt cx="320040" cy="1191240"/>
            </a:xfrm>
          </p:grpSpPr>
          <p:sp>
            <p:nvSpPr>
              <p:cNvPr id="84" name=""/>
              <p:cNvSpPr/>
              <p:nvPr/>
            </p:nvSpPr>
            <p:spPr>
              <a:xfrm>
                <a:off x="4952880" y="4267080"/>
                <a:ext cx="304560" cy="11430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37400" y="4267080"/>
                <a:ext cx="317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10 BT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10 BT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10 BT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10 BT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004080" y="4267080"/>
              <a:ext cx="320400" cy="1191240"/>
              <a:chOff x="6004080" y="4267080"/>
              <a:chExt cx="320400" cy="1191240"/>
            </a:xfrm>
          </p:grpSpPr>
          <p:sp>
            <p:nvSpPr>
              <p:cNvPr id="87" name=""/>
              <p:cNvSpPr/>
              <p:nvPr/>
            </p:nvSpPr>
            <p:spPr>
              <a:xfrm>
                <a:off x="6019560" y="4267080"/>
                <a:ext cx="304920" cy="11430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04080" y="4267080"/>
                <a:ext cx="317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10 BT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10 BT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10 BT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10 BT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7220880" y="4267080"/>
              <a:ext cx="1003680" cy="1191240"/>
              <a:chOff x="7220880" y="4267080"/>
              <a:chExt cx="1003680" cy="1191240"/>
            </a:xfrm>
          </p:grpSpPr>
          <p:sp>
            <p:nvSpPr>
              <p:cNvPr id="90" name=""/>
              <p:cNvSpPr/>
              <p:nvPr/>
            </p:nvSpPr>
            <p:spPr>
              <a:xfrm>
                <a:off x="7238880" y="4267080"/>
                <a:ext cx="914400" cy="11430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20880" y="4267080"/>
                <a:ext cx="1003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10 BT"/>
                  </a:rPr>
                  <a:t>z[i+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10 BT"/>
                  </a:rPr>
                  <a:t>z[i+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10 BT"/>
                  </a:rPr>
                  <a:t>z[i+2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10 BT"/>
                  </a:rPr>
                  <a:t>z[i+3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4497840" y="4724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10 BT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61480" y="4724280"/>
              <a:ext cx="635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10 BT"/>
                </a:rPr>
                <a:t>+</a:t>
              </a:r>
              <a:r>
                <a:rPr b="1" lang="de-DE" sz="1800" spc="-1" strike="noStrike" baseline="-25000">
                  <a:solidFill>
                    <a:srgbClr val="000000"/>
                  </a:solidFill>
                  <a:latin typeface="Courier10 BT"/>
                </a:rPr>
                <a:t>SIM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99800" y="4724280"/>
              <a:ext cx="635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ourier10 BT"/>
                </a:rPr>
                <a:t>*</a:t>
              </a:r>
              <a:r>
                <a:rPr b="1" lang="de-DE" sz="1800" spc="-1" strike="noStrike" baseline="-25000">
                  <a:solidFill>
                    <a:srgbClr val="000000"/>
                  </a:solidFill>
                  <a:latin typeface="Courier10 BT"/>
                </a:rPr>
                <a:t>SIM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099320" y="4267080"/>
              <a:ext cx="320040" cy="1191240"/>
              <a:chOff x="4099320" y="4267080"/>
              <a:chExt cx="320040" cy="1191240"/>
            </a:xfrm>
          </p:grpSpPr>
          <p:sp>
            <p:nvSpPr>
              <p:cNvPr id="96" name=""/>
              <p:cNvSpPr/>
              <p:nvPr/>
            </p:nvSpPr>
            <p:spPr>
              <a:xfrm>
                <a:off x="4114800" y="4267080"/>
                <a:ext cx="304560" cy="11430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99320" y="4267080"/>
                <a:ext cx="317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10 BT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10 BT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10 BT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ourier10 BT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3306600" y="45720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689-32AD-4518-A14D-4E02F6DB9E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Cost and Benefit of SL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Resul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f packed computation is also packe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Unpackin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may be require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Performance benefi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f statement packing =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speedup from parallelizatio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minu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cost of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packing and unp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Performance degrada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s possible e.g. when packing and unpacking costs are high relative to ALU ope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350-193A-4449-9260-E66C206F5F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Goals of SLP Detec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nimize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packing and unpackin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look for cases where packed data produced as a result in one computation can b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irectly use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n another computation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ocate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adjacent memory reference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f packed statements contain adjacent references among corresponding operations, operands are effectively packed in memory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no reshuffl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ithin a register is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ne address calculation followed by a load/store is required instead of one individual calculations and loads and stores per ele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295-3B64-4FAE-BE08-3D3B4C7740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09:43:40Z</dcterms:created>
  <dc:creator>Dr.-Ing. Daniel Kästner</dc:creator>
  <dc:description/>
  <dc:language>en-US</dc:language>
  <cp:lastModifiedBy>kaestner</cp:lastModifiedBy>
  <cp:lastPrinted>2000-12-17T14:24:12Z</cp:lastPrinted>
  <dcterms:modified xsi:type="dcterms:W3CDTF">2002-01-22T18:14:46Z</dcterms:modified>
  <cp:revision>1247</cp:revision>
  <dc:subject/>
  <dc:title>Codeerzeugung für eingebettete Prozessoren</dc:title>
</cp:coreProperties>
</file>