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34A0-D263-411B-867C-DCC2EB01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BA1-7725-4015-A7AB-93A4E1C9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260-53A7-4E8B-875D-1FF2F11A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F3B-1DA8-44D1-A779-6EB90ADD8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1F-002B-4A78-989B-6D823F0E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A7F9-F2A3-4BF6-A69B-83EBE107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8DB-4F7E-4051-AAEC-5B0144E99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62D-1AF8-481C-9BC9-613B333A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63D-774E-4662-B687-EDC98AD1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A41-D65D-4E53-AA7A-531EBDD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2A-B0F0-407E-A9F8-0FE80090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67D-CEDF-477E-91B4-3B2BB04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7121520" y="5630760"/>
          <a:ext cx="95580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1520" y="5630760"/>
                    <a:ext cx="95580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76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769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B5CD-5AC9-4DCC-9B1D-D4547C6DD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ule" descr=""/>
          <p:cNvPicPr/>
          <p:nvPr/>
        </p:nvPicPr>
        <p:blipFill>
          <a:blip r:embed="rId4"/>
          <a:stretch/>
        </p:blipFill>
        <p:spPr>
          <a:xfrm>
            <a:off x="990720" y="579744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892160" y="6040440"/>
            <a:ext cx="5270760" cy="426960"/>
          </a:xfrm>
          <a:custGeom>
            <a:avLst/>
            <a:gdLst/>
            <a:ahLst/>
            <a:rect l="l" t="t" r="r" b="b"/>
            <a:pathLst>
              <a:path w="3148" h="269">
                <a:moveTo>
                  <a:pt x="0" y="0"/>
                </a:moveTo>
                <a:lnTo>
                  <a:pt x="3148" y="0"/>
                </a:lnTo>
                <a:lnTo>
                  <a:pt x="3148" y="265"/>
                </a:lnTo>
                <a:lnTo>
                  <a:pt x="2" y="269"/>
                </a:lnTo>
                <a:lnTo>
                  <a:pt x="20" y="185"/>
                </a:lnTo>
                <a:cubicBezTo>
                  <a:pt x="23" y="155"/>
                  <a:pt x="23" y="120"/>
                  <a:pt x="20" y="89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39760" y="6021360"/>
            <a:ext cx="731880" cy="432000"/>
          </a:xfrm>
          <a:custGeom>
            <a:avLst/>
            <a:gdLst/>
            <a:ahLst/>
            <a:rect l="l" t="t" r="r" b="b"/>
            <a:pathLst>
              <a:path w="461" h="272">
                <a:moveTo>
                  <a:pt x="461" y="5"/>
                </a:moveTo>
                <a:lnTo>
                  <a:pt x="2" y="0"/>
                </a:lnTo>
                <a:lnTo>
                  <a:pt x="0" y="272"/>
                </a:lnTo>
                <a:lnTo>
                  <a:pt x="455" y="263"/>
                </a:lnTo>
                <a:lnTo>
                  <a:pt x="437" y="173"/>
                </a:lnTo>
                <a:cubicBezTo>
                  <a:pt x="435" y="142"/>
                  <a:pt x="439" y="105"/>
                  <a:pt x="443" y="77"/>
                </a:cubicBezTo>
                <a:lnTo>
                  <a:pt x="461" y="5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924680" y="6039000"/>
            <a:ext cx="927360" cy="431640"/>
          </a:xfrm>
          <a:custGeom>
            <a:avLst/>
            <a:gdLst/>
            <a:ahLst/>
            <a:rect l="l" t="t" r="r" b="b"/>
            <a:pathLst>
              <a:path w="457" h="272">
                <a:moveTo>
                  <a:pt x="0" y="5"/>
                </a:moveTo>
                <a:lnTo>
                  <a:pt x="455" y="0"/>
                </a:lnTo>
                <a:lnTo>
                  <a:pt x="457" y="272"/>
                </a:lnTo>
                <a:lnTo>
                  <a:pt x="0" y="270"/>
                </a:lnTo>
                <a:lnTo>
                  <a:pt x="0" y="5"/>
                </a:lnTo>
                <a:close/>
              </a:path>
            </a:pathLst>
          </a:custGeom>
          <a:gradFill rotWithShape="0">
            <a:gsLst>
              <a:gs pos="0">
                <a:srgbClr val="8d8d98"/>
              </a:gs>
              <a:gs pos="100000">
                <a:srgbClr val="ede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oftware Pipeli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inciples and Modulo Schedul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DB6A-B86C-4580-AA7A-4941AA87087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Modulo 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oal: Compute a schedul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for one iter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the loop so that when it is repeated at regular intervals, no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intra-or inter-iteration dependenc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e violated and no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esource confli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ise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sic ste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mpute a lower bound for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itiation interval 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ind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nerate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kernel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nerat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rologu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epilogu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271-EBC7-4EDC-B81C-1F4718920C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ncreasing the Exploitable Parallelis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if-convers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o eliminate branch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limination of pseudo dependences introduced by register allocation (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egister renam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scalar renam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rotating register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ECE-673E-48D7-96DC-5878BA95D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Lower Bound for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s determined b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resource consump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8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8000"/>
                </a:solidFill>
                <a:latin typeface="Tahoma"/>
              </a:rPr>
              <a:t>data dependenc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etween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447920" y="2971800"/>
                <a:ext cx="6095880" cy="21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s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dep</m:t>
                                </m:r>
                              </m:sub>
                            </m:sSub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σ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 sequence of operations that </m:t>
                            </m:r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atisfies resource availability restrictions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la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Dist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 cycle in the DDG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47A-F530-4AA3-9B15-0AA78E1B9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Reservation Tables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 each operation,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peration reservation table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fines the resource consumption at each cycle.</a:t>
            </a:r>
            <a:br>
              <a:rPr sz="2000"/>
            </a:b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RT: Cycles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Resources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{0,1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sourc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ource and result bus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tages of functional un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ycl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re the number of clock cycles after issuing the ope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resertable" descr=""/>
          <p:cNvPicPr/>
          <p:nvPr/>
        </p:nvPicPr>
        <p:blipFill>
          <a:blip r:embed="rId1"/>
          <a:stretch/>
        </p:blipFill>
        <p:spPr>
          <a:xfrm>
            <a:off x="2819520" y="3657600"/>
            <a:ext cx="2743200" cy="23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E38-A377-449F-A7A8-B672A36AD6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Reservation Tables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schedule reservation tabl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cords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for each cyc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which resourc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used by 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which operatio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by the schedule under constru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hen an operation is scheduled at tim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its reservation table is first translated by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then further translated until a conflict-free overlay is possi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EED-15E8-44FB-A2CA-E53837FDFC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Reservation Tables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plexity of determining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pends on the type of resource consum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mple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a single resource is used for a single cycle which is the issue cyc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block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a single resource is used for multiple, consecutive cycles starting at the issue cyc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omplex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all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alternative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required for operations that can be executed on different functional units. In this case instruction scheduling has to be extended by resource allocation (functional unit binding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052-777C-4AB2-90EE-7EB0777715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Determin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termining the minimal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equivalent to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binpack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Given a set of n objects where the size s</a:t>
            </a:r>
            <a:r>
              <a:rPr b="0" lang="de-DE" sz="24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of the i-th object satisfies 0&lt; s</a:t>
            </a:r>
            <a:r>
              <a:rPr b="0" lang="de-DE" sz="2400" spc="-1" strike="noStrike" baseline="-25000">
                <a:solidFill>
                  <a:srgbClr val="3333cc"/>
                </a:solidFill>
                <a:latin typeface="Tahoma"/>
              </a:rPr>
              <a:t>i</a:t>
            </a: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 &lt;1. The goal is to pack all the objects into the minimum number of unit-size bins. Each bin can hold any subset of the objects whose total size does not exceed 1.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ready the basic version is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NP-har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mplex and alternative reservation tables further complicate determining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ABA-B6D7-4F3B-9AD3-B77815C58A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Determin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 complexity reasons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determined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heuristically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36936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rt operations of loop body in increasing number of alternative reservation t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12880" indent="-36936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 each operation a taken from this lis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raverse all alternatives and for each resource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compute an increment of the resource count for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y the number of times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uses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elect the alternative with lowest (partial) maximal usage count over all resourc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19680" indent="-332640"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For each resource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ncrement the resource count for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by the number of time the chosen alternative of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uses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the end the usage count of the most heavily used resource constitutes the approximated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FBE-36B9-464D-A2BA-71CA9CB39D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Determin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={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,...d</a:t>
            </a:r>
            <a:r>
              <a:rPr b="0" i="1" lang="de-DE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be an elementary cycle of the dependence graph. Then define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38280" y="2133720"/>
                <a:ext cx="403884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lay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  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tDist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Dist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21000" y="3809880"/>
            <a:ext cx="75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 each schedule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nd each operati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from 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38280" y="4572000"/>
                <a:ext cx="30481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II</m:t>
                    </m:r>
                    <m:r>
                      <m:t xml:space="preserve">⋅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34E-7559-420D-8D33-7178E4305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Determin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85880" y="1676520"/>
            <a:ext cx="450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ing constraint for II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de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86000" y="2550960"/>
                <a:ext cx="419112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itDist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delay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∀</m:t>
                        </m:r>
                        <m:r>
                          <m:t xml:space="preserve">θ</m:t>
                        </m:r>
                        <m:r>
                          <m:t xml:space="preserve">: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  <m:r>
                          <m:t xml:space="preserve">≥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ela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tDist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e: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ep</m:t>
                            </m:r>
                          </m:sub>
                        </m:sSub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θ</m:t>
                            </m:r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d>
                              <m:dPr>
                                <m:begChr m:val="⌈"/>
                                <m:endChr m:val="⌉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la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tDist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0CE-D7C9-4324-930D-F55D9EE0DA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Acyclic and Cyclic 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eduling of acyclic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ist scheduling: basic b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ace/Superblock scheduling: sequences of basic block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the presence of loops: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cyclic schedu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Unrol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 loop n times and then schedule the body of the new loop. Drawback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code grow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o overlapping across back ed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eduling loops for overlapping executions of several consecutive iterations: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oftware Pipelin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DAA8-934D-4DBE-A1EC-58955E8DB3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mput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sed on algorithm for th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minimal cost-to-time ratio cycle problem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Inpu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nDist[i,j]: smallest legal interval betwe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i) an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j) in the same iteration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Minimum legal initiation interval I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9A91-518E-4343-BB3D-EC0E7B89D2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mputing II</a:t>
            </a:r>
            <a:r>
              <a:rPr b="0" lang="de-DE" sz="4000" spc="-1" strike="noStrike" baseline="-25000">
                <a:solidFill>
                  <a:srgbClr val="000000"/>
                </a:solidFill>
                <a:latin typeface="Tahoma"/>
              </a:rPr>
              <a:t>dep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itialization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rting from the initial value of II, increase II and recalculate MinDist. Three possible a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inDist[i,i]&gt;0: not possibl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I has to be increa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inDist[i,i]&lt;0 for all i: slack around every cycle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II can be decreas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If no diagonal entry is positive and at least for one i: MinDist[i,i]=0, the algorithm terminates.</a:t>
            </a:r>
            <a:br>
              <a:rPr sz="1800"/>
            </a:b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Time complexity: O(n</a:t>
            </a:r>
            <a:r>
              <a:rPr b="0" lang="de-DE" sz="1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066680" y="1523880"/>
            <a:ext cx="7759800" cy="1828800"/>
            <a:chOff x="1066680" y="1523880"/>
            <a:chExt cx="7759800" cy="1828800"/>
          </a:xfrm>
        </p:grpSpPr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1066680" y="1768320"/>
                  <a:ext cx="7543800" cy="14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Dist</m:t>
                      </m:r>
                      <m:r>
                        <m:t xml:space="preserve">[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r>
                        <m:t xml:space="preserve">j</m:t>
                      </m:r>
                      <m:r>
                        <m:t xml:space="preserve">]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1" name=""/>
            <p:cNvSpPr/>
            <p:nvPr/>
          </p:nvSpPr>
          <p:spPr>
            <a:xfrm>
              <a:off x="8445600" y="1523880"/>
              <a:ext cx="38088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-3978360" y="304920"/>
            <a:ext cx="3978360" cy="168120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.-Ing. Daniel Kästn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value of the increment is doubled each time the II is incremented. A binary search is performed between the last successful candidate and the previous unsuccessful value, until IIdep is fou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BD5-8F4D-4873-BEBC-1619A39F09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ume that a valid II has been computed, i.e. a new iteration of the kernel can be started every II cycle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ume A,B,C,D are executed on different functional units, so II=1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valid schedule for one iteration of the original loop is A;B;C;D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ceptually: unroll the original loop with an appropriate schedule, but start a new iteration every II cyc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905120"/>
            <a:ext cx="696960" cy="2825640"/>
            <a:chOff x="914400" y="1905120"/>
            <a:chExt cx="696960" cy="2825640"/>
          </a:xfrm>
        </p:grpSpPr>
        <p:sp>
          <p:nvSpPr>
            <p:cNvPr id="126" name=""/>
            <p:cNvSpPr/>
            <p:nvPr/>
          </p:nvSpPr>
          <p:spPr>
            <a:xfrm>
              <a:off x="1143000" y="2076480"/>
              <a:ext cx="3636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93840" y="2450880"/>
              <a:ext cx="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93840" y="321300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93840" y="389880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1905120"/>
              <a:ext cx="696960" cy="39348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175" y="240"/>
                  </a:moveTo>
                  <a:cubicBezTo>
                    <a:pt x="147" y="220"/>
                    <a:pt x="0" y="168"/>
                    <a:pt x="6" y="128"/>
                  </a:cubicBezTo>
                  <a:cubicBezTo>
                    <a:pt x="12" y="88"/>
                    <a:pt x="145" y="0"/>
                    <a:pt x="214" y="0"/>
                  </a:cubicBezTo>
                  <a:cubicBezTo>
                    <a:pt x="283" y="0"/>
                    <a:pt x="405" y="87"/>
                    <a:pt x="422" y="128"/>
                  </a:cubicBezTo>
                  <a:cubicBezTo>
                    <a:pt x="439" y="169"/>
                    <a:pt x="340" y="223"/>
                    <a:pt x="318" y="24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B8E-9A07-474D-8C65-E96A312DEB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460840" y="4800600"/>
            <a:ext cx="19051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3581280"/>
            <a:ext cx="1447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27280" y="3936960"/>
            <a:ext cx="144756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20760" y="4305240"/>
            <a:ext cx="144792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ult of conceptual unrolling and overlapp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1370880" y="1981080"/>
            <a:ext cx="292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Courier New"/>
              </a:rPr>
              <a:t>1 2 3 4 5 6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6576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6720" y="40384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57600" y="419076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3720" y="3701880"/>
            <a:ext cx="23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peating pattern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teady state / ker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94680" y="4495680"/>
            <a:ext cx="1887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More precisel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k+1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B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k+2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</a:rPr>
              <a:t>k+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5440" y="2063880"/>
            <a:ext cx="99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ahoma"/>
              </a:rPr>
              <a:t>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D78-71F9-4A09-AEEF-27D6D06B3A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oal: Determine the kernel by looking at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ingle iter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riginal loop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 schedule of one iteration of t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riginal can be divided into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tages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sisting 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I cycl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ach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dea: obtain the schedule for t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ernel from that of a single itera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y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uperimpos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t for each of thes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tages, i.e. by wrapping around th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chedule for one iteratio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ulo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248520" y="2438280"/>
            <a:ext cx="1219320" cy="1922760"/>
            <a:chOff x="6248520" y="2438280"/>
            <a:chExt cx="1219320" cy="1922760"/>
          </a:xfrm>
        </p:grpSpPr>
        <p:sp>
          <p:nvSpPr>
            <p:cNvPr id="147" name=""/>
            <p:cNvSpPr/>
            <p:nvPr/>
          </p:nvSpPr>
          <p:spPr>
            <a:xfrm>
              <a:off x="6251040" y="2438280"/>
              <a:ext cx="1216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Courier New"/>
                </a:rPr>
                <a:t>op</a:t>
              </a: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de-DE" sz="1600" spc="-1" strike="noStrike">
                  <a:solidFill>
                    <a:srgbClr val="3333cc"/>
                  </a:solidFill>
                  <a:latin typeface="Courier New"/>
                </a:rPr>
                <a:t>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A  </a:t>
              </a:r>
              <a:r>
                <a:rPr b="0" lang="de-DE" sz="2400" spc="-1" strike="noStrike">
                  <a:solidFill>
                    <a:srgbClr val="3333cc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B  </a:t>
              </a:r>
              <a:r>
                <a:rPr b="0" lang="de-DE" sz="2400" spc="-1" strike="noStrike">
                  <a:solidFill>
                    <a:srgbClr val="3333cc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C  </a:t>
              </a:r>
              <a:r>
                <a:rPr b="0" lang="de-DE" sz="2400" spc="-1" strike="noStrike">
                  <a:solidFill>
                    <a:srgbClr val="3333cc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D  </a:t>
              </a:r>
              <a:r>
                <a:rPr b="0" lang="de-DE" sz="2400" spc="-1" strike="noStrike">
                  <a:solidFill>
                    <a:srgbClr val="3333cc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48520" y="321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8520" y="359424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9751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C14-0954-4D74-ADAA-FC951A32D28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ances of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ame oper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ifferent iter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the kernel ar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ycles apar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esource constraints satisfied, if no machine resource is used at two points in time that are separated by a multiple of II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is is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ulo constrain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ulo schedule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MRT[t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r] records the use of a resource r at time 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length of MRT = I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I is given from the outside, but there are no constraints on the number of iterations executing simultaneous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f B is scheduled 3II cycles later than A in the same iteration of the original loop, then instances of A and B are issued simultaneously in the kernel, but A has been issued three times before b is issued for the first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469-F789-48C9-9C61-C4C3ABAEA2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The modulo schedule for a single iteration determines what code motion is implicit in the schedule.</a:t>
            </a:r>
            <a:br>
              <a:rPr sz="2000"/>
            </a:b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operations in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ta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ontaining the loopback branch are the only ones that have not been moved around the backedg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ll operations in earlier/later stages have been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moved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ackwards/forwards around the backedge to a previous/subsequent iteratio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The greater the distance of a stage from the one containing the loopback branch the larger the number of times the operations have been moved around the back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68C-215D-48B4-921B-5E0E218EB9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imple Examp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=0: A has no predecessors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ime(A)=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=1: Predecessor of B has been schedu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o conflict in MRT[n mod II]=MRT[1 mod 1]=MRT[0]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ime(B)=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=2: Predecessor of C has been schedu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o conflict in MRT[2 mod 1]=MRT[0]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ime(C)=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=3: Predecessor of D has been schedul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No conflict in MRT[3 mod 1]=MRT[0]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time(D)=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Resulting Schedule and partitioning into stage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1905120"/>
            <a:ext cx="696960" cy="2825640"/>
            <a:chOff x="380880" y="1905120"/>
            <a:chExt cx="696960" cy="2825640"/>
          </a:xfrm>
        </p:grpSpPr>
        <p:sp>
          <p:nvSpPr>
            <p:cNvPr id="158" name=""/>
            <p:cNvSpPr/>
            <p:nvPr/>
          </p:nvSpPr>
          <p:spPr>
            <a:xfrm>
              <a:off x="609480" y="2076480"/>
              <a:ext cx="3636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0320" y="2450880"/>
              <a:ext cx="0" cy="38088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0320" y="321300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0320" y="3898800"/>
              <a:ext cx="0" cy="4568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0880" y="1905120"/>
              <a:ext cx="696960" cy="39348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175" y="240"/>
                  </a:moveTo>
                  <a:cubicBezTo>
                    <a:pt x="147" y="220"/>
                    <a:pt x="0" y="168"/>
                    <a:pt x="6" y="128"/>
                  </a:cubicBezTo>
                  <a:cubicBezTo>
                    <a:pt x="12" y="88"/>
                    <a:pt x="145" y="0"/>
                    <a:pt x="214" y="0"/>
                  </a:cubicBezTo>
                  <a:cubicBezTo>
                    <a:pt x="283" y="0"/>
                    <a:pt x="405" y="87"/>
                    <a:pt x="422" y="128"/>
                  </a:cubicBezTo>
                  <a:cubicBezTo>
                    <a:pt x="439" y="169"/>
                    <a:pt x="340" y="223"/>
                    <a:pt x="318" y="24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124080" y="3962520"/>
            <a:ext cx="2210040" cy="1981080"/>
            <a:chOff x="3124080" y="3962520"/>
            <a:chExt cx="2210040" cy="1981080"/>
          </a:xfrm>
        </p:grpSpPr>
        <p:sp>
          <p:nvSpPr>
            <p:cNvPr id="164" name=""/>
            <p:cNvSpPr/>
            <p:nvPr/>
          </p:nvSpPr>
          <p:spPr>
            <a:xfrm>
              <a:off x="3124080" y="4038480"/>
              <a:ext cx="2210040" cy="1905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80320" y="3962520"/>
              <a:ext cx="19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op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600" spc="-1" strike="noStrike">
                  <a:solidFill>
                    <a:srgbClr val="3333cc"/>
                  </a:solidFill>
                  <a:latin typeface="Courier New"/>
                </a:rPr>
                <a:t>stage </a:t>
              </a:r>
              <a:r>
                <a:rPr b="1" lang="de-DE" sz="1600" spc="-1" strike="noStrike">
                  <a:solidFill>
                    <a:srgbClr val="009900"/>
                  </a:solidFill>
                  <a:latin typeface="Courier New"/>
                </a:rPr>
                <a:t>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0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B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1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C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2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D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3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E4F7-8D4E-43A3-A2C5-D99B8FF24E4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he Modulo Scheduling Ide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666520" y="1447920"/>
            <a:ext cx="57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nly D in stage 3 has not been moved around the backedge; C has been moved once, B twice and A three tim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us we have schedu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to 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k-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(n-1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k-2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(n-2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k-3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(n-3)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II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009900"/>
                </a:solidFill>
                <a:latin typeface="Tahoma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 1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0</a:t>
            </a:r>
            <a:br>
              <a:rPr sz="2000"/>
            </a:b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ernel Schedule: D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k-1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B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k-2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ahoma"/>
              </a:rPr>
              <a:t>k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80880" y="2362320"/>
            <a:ext cx="2210040" cy="1981080"/>
            <a:chOff x="380880" y="2362320"/>
            <a:chExt cx="2210040" cy="1981080"/>
          </a:xfrm>
        </p:grpSpPr>
        <p:sp>
          <p:nvSpPr>
            <p:cNvPr id="169" name=""/>
            <p:cNvSpPr/>
            <p:nvPr/>
          </p:nvSpPr>
          <p:spPr>
            <a:xfrm>
              <a:off x="380880" y="2438280"/>
              <a:ext cx="2210040" cy="19051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7120" y="2362320"/>
              <a:ext cx="19483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Courier New"/>
                </a:rPr>
                <a:t>op</a:t>
              </a: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de-DE" sz="1600" spc="-1" strike="noStrike">
                  <a:solidFill>
                    <a:srgbClr val="3333cc"/>
                  </a:solidFill>
                  <a:latin typeface="Courier New"/>
                </a:rPr>
                <a:t>stage </a:t>
              </a:r>
              <a:r>
                <a:rPr b="1" lang="de-DE" sz="1600" spc="-1" strike="noStrike">
                  <a:solidFill>
                    <a:srgbClr val="009900"/>
                  </a:solidFill>
                  <a:latin typeface="Courier New"/>
                </a:rPr>
                <a:t>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A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0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B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1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C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2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Courier New"/>
                </a:rPr>
                <a:t>D  </a:t>
              </a:r>
              <a:r>
                <a:rPr b="1" lang="de-DE" sz="2400" spc="-1" strike="noStrike">
                  <a:solidFill>
                    <a:srgbClr val="3333cc"/>
                  </a:solidFill>
                  <a:latin typeface="Courier New"/>
                </a:rPr>
                <a:t>3   </a:t>
              </a:r>
              <a:r>
                <a:rPr b="1" lang="de-DE" sz="2400" spc="-1" strike="noStrike">
                  <a:solidFill>
                    <a:srgbClr val="009900"/>
                  </a:solidFill>
                  <a:latin typeface="Courier New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2E8-8393-4855-B89B-15AB016CC86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Modulo Scheduling vs. List 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modulo scheduling, an operation can be unscheduled by backtracking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perations can be scheduled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everal tim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ulo schedule reservation tab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MRT[t mod II,r] records the use of a resource r at time 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length of MRT = II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flict at time 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conflict at all times t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nII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scheduling only for a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candidate interva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[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] where 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=t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+II-1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procedure FindTimeSlot might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not find a legal schedu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the current operation in the interval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backtracking. List scheduling always finds a feasible schedu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50E-919F-4839-8779-63F85718B1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72200" y="4013280"/>
            <a:ext cx="160020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2895480"/>
            <a:ext cx="16002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Loop Unrolling and Software Pipeli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227520" y="1692360"/>
            <a:ext cx="282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a Dependence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rap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07680" y="1633680"/>
            <a:ext cx="21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fter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rolling (4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6200" y="170964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fte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92160" y="2806560"/>
            <a:ext cx="696960" cy="2826000"/>
            <a:chOff x="992160" y="2806560"/>
            <a:chExt cx="696960" cy="2826000"/>
          </a:xfrm>
        </p:grpSpPr>
        <p:sp>
          <p:nvSpPr>
            <p:cNvPr id="58" name=""/>
            <p:cNvSpPr/>
            <p:nvPr/>
          </p:nvSpPr>
          <p:spPr>
            <a:xfrm>
              <a:off x="1220760" y="2978280"/>
              <a:ext cx="3636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1600" y="3352680"/>
              <a:ext cx="0" cy="3812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71600" y="411480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4800600"/>
              <a:ext cx="0" cy="4572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2160" y="2806560"/>
              <a:ext cx="696960" cy="393840"/>
            </a:xfrm>
            <a:custGeom>
              <a:avLst/>
              <a:gdLst/>
              <a:ahLst/>
              <a:rect l="l" t="t" r="r" b="b"/>
              <a:pathLst>
                <a:path w="439" h="248">
                  <a:moveTo>
                    <a:pt x="175" y="240"/>
                  </a:moveTo>
                  <a:cubicBezTo>
                    <a:pt x="147" y="220"/>
                    <a:pt x="0" y="168"/>
                    <a:pt x="6" y="128"/>
                  </a:cubicBezTo>
                  <a:cubicBezTo>
                    <a:pt x="12" y="88"/>
                    <a:pt x="145" y="0"/>
                    <a:pt x="214" y="0"/>
                  </a:cubicBezTo>
                  <a:cubicBezTo>
                    <a:pt x="283" y="0"/>
                    <a:pt x="405" y="87"/>
                    <a:pt x="422" y="128"/>
                  </a:cubicBezTo>
                  <a:cubicBezTo>
                    <a:pt x="439" y="169"/>
                    <a:pt x="340" y="223"/>
                    <a:pt x="318" y="248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567600" y="2859120"/>
            <a:ext cx="146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34480" y="2859120"/>
            <a:ext cx="146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52" idx="2"/>
            <a:endCxn id="63" idx="0"/>
          </p:cNvCxnSpPr>
          <p:nvPr/>
        </p:nvCxnSpPr>
        <p:spPr>
          <a:xfrm flipV="1" rot="16200000">
            <a:off x="2949840" y="4207320"/>
            <a:ext cx="2704320" cy="6840"/>
          </a:xfrm>
          <a:prstGeom prst="curvedConnector5">
            <a:avLst>
              <a:gd name="adj1" fmla="val -8440"/>
              <a:gd name="adj2" fmla="val -9900000"/>
              <a:gd name="adj3" fmla="val -84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/>
          <p:nvPr/>
        </p:nvCxnSpPr>
        <p:spPr>
          <a:xfrm flipH="1" flipV="1" rot="5400000">
            <a:off x="7442640" y="4215240"/>
            <a:ext cx="381600" cy="2160"/>
          </a:xfrm>
          <a:prstGeom prst="curvedConnector5">
            <a:avLst>
              <a:gd name="adj1" fmla="val -59962"/>
              <a:gd name="adj2" fmla="val 32400000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2E1-3F5A-4773-BA5E-75421C0347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Iterative Modulo 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1132560" y="1339920"/>
            <a:ext cx="660888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IterativeSchedule (II, budge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ComputeHeightR;  // scheduling pri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time(o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Courier10 BT"/>
              </a:rPr>
              <a:t>START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):=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udget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forall operations op except o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Courier10 BT"/>
              </a:rPr>
              <a:t>STAR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NeverScheduled[op]:=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baseline="-25000">
                <a:solidFill>
                  <a:srgbClr val="000000"/>
                </a:solidFill>
                <a:latin typeface="Courier10 BT"/>
              </a:rPr>
              <a:t>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while (not all operations scheduled and budget&gt;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op:=HighestPrioOp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estart:=CalculateEarlyStart(op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mintime:=estar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maxtime:=mintime+II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slot:=FindTimeSlot(op,mintime,maxti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schedule(op,slo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budget:=budget-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10 BT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3A1F-F364-4212-A77B-252E15CC570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Scheduling Priorit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asis: height-based pr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tension for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int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iteration dependen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762120" y="3278160"/>
                <a:ext cx="78483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ight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top</m:t>
                                </m:r>
                              </m:sub>
                            </m:sSub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BF3-D084-4282-AC11-87AF23F9A1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andidate Time Sl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rrectness of the schedu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rt.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resource usa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guaranteed by M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rt.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ata dependence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the earliest start time for the operation, Estart, has to be chosen so that no dependences are viola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blem in computing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Estar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due to unscheduling, it is impossible to guarantee that all predecessors of an operation have been scheduled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hen computimg HeightR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only the currently scheduled immediate predecessor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e considered; operations that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conflict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ith the currently scheduled operation are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schedul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0043-860D-48D3-A9AC-FE889016C9A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andidate Slots and Unschedul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1523880"/>
                <a:ext cx="85456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art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pre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lim>
                    </m:limLow>
                    <m:eqArr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q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nscheduled</m:t>
                            </m:r>
                          </m:e>
                          <m:e/>
                        </m:d>
                      </m:e>
                    </m:eqArr>
                    <m:d>
                      <m:dPr>
                        <m:begChr m:val="{"/>
                        <m:endChr m:val="}"/>
                      </m:dPr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ssume a time slot has been found between Estart and Estart+II-1.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Conflic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re only possible with scheduled success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case of conflict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unschedul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lot without resource conflicts found: unschedule operation with dependence confli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o slot without resource conflicts found: choose time slot + choose operation to unschedu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1A0-5A16-4A2B-A23E-05F71FCFEDD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End of Modulo Scheduling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CE15-77CC-4248-873E-B7E8F9EB7AD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Kernel Recogni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roll loop once and analyze dependenc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truct a schedule using greedy heuristics or height-based heuristic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earch for a block of instructions that occurs twice consecutively (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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)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 new loop body out of this block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f successful, otherwise goto 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1AFE-34B9-4121-A454-FA8E6E05C1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Kernel Recogni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he repetition test can be complex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e the same operations schedul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hen are the results availabl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e the same reources occupi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e the same registers occupied by the resul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CEE2-4F44-40B9-BC0C-075F6489F4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Opera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chine operation, e.g. </a:t>
            </a:r>
            <a:r>
              <a:rPr b="0" lang="de-DE" sz="2400" spc="-1" strike="noStrike">
                <a:solidFill>
                  <a:srgbClr val="000000"/>
                </a:solidFill>
                <a:latin typeface="Courier10 BT"/>
              </a:rPr>
              <a:t>ad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Courier10 BT"/>
              </a:rPr>
              <a:t>loa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Courier10 BT"/>
              </a:rPr>
              <a:t>stor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Names: a, b, c, ..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nstruc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Set of machine operations scheduled at the same positio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s: A, B, C, ..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Latenc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Execution time of an operation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la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Distance between two consecutive dependent operations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Schedul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apping from operations to positions (cycles)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E25-2D1C-4B82-B17B-CD13002013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Goal of Software Pipelining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oop with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body 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de-DE" sz="2000" spc="-1" strike="noStrike">
                <a:solidFill>
                  <a:srgbClr val="ff3300"/>
                </a:solidFill>
                <a:latin typeface="Symbol"/>
                <a:ea typeface="Symbol"/>
              </a:rPr>
              <a:t>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 it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p-times parallel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an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fficient parallel schedule for  L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de-DE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s transformed into </a:t>
            </a:r>
            <a:r>
              <a:rPr b="0" lang="de-DE" sz="2000" spc="-1" strike="noStrike">
                <a:solidFill>
                  <a:srgbClr val="008000"/>
                </a:solidFill>
                <a:latin typeface="Symbol"/>
                <a:ea typeface="Symbol"/>
              </a:rPr>
              <a:t></a:t>
            </a:r>
            <a:r>
              <a:rPr b="0" lang="de-DE" sz="2000" spc="-1" strike="noStrike">
                <a:solidFill>
                  <a:srgbClr val="ff3300"/>
                </a:solidFill>
                <a:latin typeface="Symbol"/>
                <a:ea typeface="Symbol"/>
              </a:rPr>
              <a:t></a:t>
            </a:r>
            <a:r>
              <a:rPr b="0" lang="de-DE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de-DE" sz="20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bod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f a new loop,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de-DE" sz="2000" spc="-1" strike="noStrike">
                <a:solidFill>
                  <a:srgbClr val="008000"/>
                </a:solidFill>
                <a:latin typeface="Tahoma"/>
              </a:rPr>
              <a:t>prologu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prelude) and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epilogu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(postlud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3962520"/>
            <a:ext cx="1371600" cy="68580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724280"/>
            <a:ext cx="13716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5180760"/>
            <a:ext cx="1371600" cy="685800"/>
          </a:xfrm>
          <a:prstGeom prst="rtTriangl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/>
          <p:nvPr/>
        </p:nvCxnSpPr>
        <p:spPr>
          <a:xfrm flipH="1" flipV="1" rot="5400000">
            <a:off x="3161880" y="4913280"/>
            <a:ext cx="381960" cy="2520"/>
          </a:xfrm>
          <a:prstGeom prst="curvedConnector5">
            <a:avLst>
              <a:gd name="adj1" fmla="val -23679"/>
              <a:gd name="adj2" fmla="val 23533333"/>
              <a:gd name="adj3" fmla="val -236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3716640" y="4062240"/>
            <a:ext cx="30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8000"/>
                </a:solidFill>
                <a:latin typeface="Tahoma"/>
              </a:rPr>
              <a:t>Prologue: initiates the pip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55480" y="46483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Tahoma"/>
              </a:rPr>
              <a:t>Kernel /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88280" y="5181480"/>
            <a:ext cx="324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ahoma"/>
              </a:rPr>
              <a:t>Epilogue: finishes the rem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Tahoma"/>
              </a:rPr>
              <a:t>              </a:t>
            </a:r>
            <a:r>
              <a:rPr b="0" lang="de-DE" sz="1600" spc="-1" strike="noStrike">
                <a:solidFill>
                  <a:srgbClr val="3333cc"/>
                </a:solidFill>
                <a:latin typeface="Tahoma"/>
              </a:rPr>
              <a:t>it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409-B500-4060-88DE-F2CB49BAD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ecedence constraints (data dependen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sourc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l operations from the body L occur equally often in the kernel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dth of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p</a:t>
            </a:r>
            <a:br>
              <a:rPr sz="2400"/>
            </a:b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oal:  |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| minim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675-D463-4A55-8D0C-AD0CBAA8CE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Approach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Move-then-schedul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move code forwards/backwards over loop back edge to improve schedule.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ahoma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Which operations to be moved, in which direction and how many time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Schedule-then-mov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find a schedule and transform code according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nroll-while-scheduling: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Kernel recognitio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Problem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Complex information to be maintained, complex checks are required, no realiable implement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Modulo-Schedulin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Generate and solve a set of modulo constraints.</a:t>
            </a:r>
            <a:br>
              <a:rPr sz="2000"/>
            </a:br>
            <a:r>
              <a:rPr b="0" lang="de-DE" sz="2000" spc="-1" strike="noStrike">
                <a:solidFill>
                  <a:srgbClr val="3333cc"/>
                </a:solidFill>
                <a:latin typeface="Tahoma"/>
              </a:rPr>
              <a:t>Problem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No control flow inside loops allowed (if conversion require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-3505320" y="304920"/>
            <a:ext cx="3260880" cy="44852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r.-Ing. Daniel Kästn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ernel recognition: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multaneously unroll and schedule the loop until the rest of the schedule would be a repitition an an existing portion of the schedule. Then the process is terminated by generating a branch back to the repetitive por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dulo scheduling: Compute a schedule for one iteration of the loop so that when it is repeated at regular intervals no intra- or inter-iteration dependences are violated and no resource conflicts ari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371-EA12-4019-8516-E6D7D89024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Terminology and Properties of the Kerne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Span </a:t>
            </a:r>
            <a:r>
              <a:rPr b="0" lang="de-DE" sz="2800" spc="-1" strike="noStrike">
                <a:solidFill>
                  <a:srgbClr val="ff33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f the kernel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: number of consecutive iterations of L of which operations are contained in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in general: different from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Initiation interval II=|</a:t>
            </a:r>
            <a:r>
              <a:rPr b="0" lang="de-DE" sz="2800" spc="-1" strike="noStrike">
                <a:solidFill>
                  <a:srgbClr val="ff3300"/>
                </a:solidFill>
                <a:latin typeface="Symbol"/>
                <a:ea typeface="Symbol"/>
              </a:rPr>
              <a:t></a:t>
            </a:r>
            <a:r>
              <a:rPr b="0" lang="de-DE" sz="2400" spc="-1" strike="noStrike">
                <a:solidFill>
                  <a:srgbClr val="ff3300"/>
                </a:solidFill>
                <a:latin typeface="Tahoma"/>
              </a:rPr>
              <a:t>|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s the distance between two successive iterations of the new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bserv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elude start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 iterations and postlude finishes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1 itera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umber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kernel itera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352680" y="5116680"/>
                <a:ext cx="19814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27C5-3158-4CD6-945A-49F8F3F14E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ahoma"/>
              </a:rPr>
              <a:t>Data Dependences revis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Iteration distanc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Number of loop iterations between two dependent instruction instances (0 for intra-iteration dependence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la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: Minimal number of clock cycles between the issuing of two dependent operation instan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dges of the DDG are labeled with (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itDis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dela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de-DE" sz="2000" spc="-1" strike="noStrike">
                <a:solidFill>
                  <a:srgbClr val="ff3300"/>
                </a:solidFill>
                <a:latin typeface="Tahoma"/>
              </a:rPr>
              <a:t>dela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for a dependenc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pends on the latencies o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d the type of the dependen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true dependence (def-use):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latency(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anti dependence (use-def):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1 - latency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output dependence (def-def): </a:t>
            </a:r>
            <a:r>
              <a:rPr b="0" i="1" lang="de-DE" sz="1800" spc="-1" strike="noStrike">
                <a:solidFill>
                  <a:srgbClr val="000000"/>
                </a:solidFill>
                <a:latin typeface="Tahoma"/>
              </a:rPr>
              <a:t>1 + latency(a) - latency(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 an operation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L: </a:t>
            </a:r>
            <a:r>
              <a:rPr b="0" i="1" lang="de-DE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i="1" lang="de-DE" sz="2000" spc="-1" strike="noStrike" baseline="-25000">
                <a:solidFill>
                  <a:srgbClr val="ff3300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enotes the instance o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-th ite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nstraint for any schedule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due to (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b, itDist, delay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590920" y="5486400"/>
                <a:ext cx="3200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tDis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ela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911-6DC9-4B2F-82D8-0C84154BC6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9:43:40Z</dcterms:created>
  <dc:creator>Dr.-Ing. Daniel Kästner</dc:creator>
  <dc:description/>
  <dc:language>en-US</dc:language>
  <cp:lastModifiedBy>Dr.-Ing. Daniel Kästner</cp:lastModifiedBy>
  <cp:lastPrinted>2000-12-17T14:24:12Z</cp:lastPrinted>
  <dcterms:modified xsi:type="dcterms:W3CDTF">2002-01-09T21:17:37Z</dcterms:modified>
  <cp:revision>1113</cp:revision>
  <dc:subject/>
  <dc:title>Codeerzeugung für eingebettete Prozessoren</dc:title>
</cp:coreProperties>
</file>